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3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.png" ContentType="image/png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25.wmf" ContentType="image/x-wmf"/>
  <Override PartName="/ppt/media/image90.wmf" ContentType="image/x-wmf"/>
  <Override PartName="/ppt/media/image29.wmf" ContentType="image/x-wmf"/>
  <Override PartName="/ppt/media/image94.wmf" ContentType="image/x-wmf"/>
  <Override PartName="/ppt/media/image1.png" ContentType="image/png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96.wmf" ContentType="image/x-wmf"/>
  <Override PartName="/ppt/media/image103.wmf" ContentType="image/x-wmf"/>
  <Override PartName="/ppt/media/image116.wmf" ContentType="image/x-wmf"/>
  <Override PartName="/ppt/media/image72.wmf" ContentType="image/x-wmf"/>
  <Override PartName="/ppt/media/image95.wmf" ContentType="image/x-wmf"/>
  <Override PartName="/ppt/media/image102.wmf" ContentType="image/x-wmf"/>
  <Override PartName="/ppt/media/image115.wmf" ContentType="image/x-wmf"/>
  <Override PartName="/ppt/media/image71.wmf" ContentType="image/x-wmf"/>
  <Override PartName="/ppt/media/image114.wmf" ContentType="image/x-wmf"/>
  <Override PartName="/ppt/media/image70.wmf" ContentType="image/x-wmf"/>
  <Override PartName="/ppt/media/image113.wmf" ContentType="image/x-wmf"/>
  <Override PartName="/ppt/media/image112.wmf" ContentType="image/x-wmf"/>
  <Override PartName="/ppt/media/image89.wmf" ContentType="image/x-wmf"/>
  <Override PartName="/ppt/media/image111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6.wmf" ContentType="image/x-wmf"/>
  <Override PartName="/ppt/media/image91.wmf" ContentType="image/x-wmf"/>
  <Override PartName="/ppt/media/image24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15.wmf" ContentType="image/x-wmf"/>
  <Override PartName="/ppt/media/image8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16EA-D80A-4D90-8968-110C9FAC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E71F-E650-4C87-A4FE-2DEBEE80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36B0-FEC8-4E9D-B73B-B4C25003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4646-12E3-451E-9E77-B238EB4C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F8B5-8705-4384-9506-B40EB3B3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C7A-5244-4D6A-B56C-465DE5ED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4752-2F10-45F2-8CC4-8E56C851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493C-87F3-439C-A241-1C6E6FA4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5F62-F97D-4E34-B7A9-31327AD6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0F2-C136-412D-8080-E4D8D1BE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5F70-B103-4D04-ACE3-EFD3F5AC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9C1A-3DB0-49AC-8D02-127DFECE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4F70-DEB2-46FD-8CE9-3A493331F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4.wmf"/><Relationship Id="rId2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1.wmf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9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5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1.wm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3.wmf"/><Relationship Id="rId2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4.wmf"/><Relationship Id="rId3" Type="http://schemas.openxmlformats.org/officeDocument/2006/relationships/image" Target="../media/image10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9.wmf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5.wmf"/><Relationship Id="rId1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2.wmf"/><Relationship Id="rId1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6080"/>
            <a:ext cx="815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nn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klahoma School of Science and Mathemat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iddle School Mathematics: An Awesome Cont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ossmlogo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2487600" cy="1578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71800" y="3809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 of Solu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715000"/>
            <a:ext cx="8610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st questions and solutions by profess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unhua Feng, Chengde Feng, Daryl Schwerdtfeger, and Tony Cornfo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76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least possible positive integer with no odd digits that is divisible by 9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11430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a list of the integer multiples of 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2057400"/>
            <a:ext cx="685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      18      27      36      45      54      63      72      81      90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2057400"/>
            <a:ext cx="6858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       117      126      135      144      153      162      171      180      189 1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15000" y="2057400"/>
            <a:ext cx="685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7       216      225      234      243      252      261      270      279      2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5334120"/>
            <a:ext cx="6858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61920" y="123840"/>
          <a:ext cx="891540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23840"/>
                    <a:ext cx="89154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3048120" y="1447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5200"/>
            <a:ext cx="114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.9       .99      .999      .9999      .9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2365200"/>
            <a:ext cx="1676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^(1/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948683… .994987…                   .999499… .999949… .999994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0296800">
            <a:off x="5002200" y="2619000"/>
            <a:ext cx="371520" cy="2133720"/>
          </a:xfrm>
          <a:prstGeom prst="ellipse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5410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ttern suggests the ith digit in the root is also 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67480" y="5410080"/>
            <a:ext cx="30492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763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watermelon is 95% water by weight.  A watermelon that originally weighed 45 pounds is left in the sun until it weighs only 30 pounds.  What percent water is it now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16765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st weight is due to water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484280" y="2589120"/>
          <a:ext cx="567864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4280" y="2589120"/>
                    <a:ext cx="56786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432080" y="3687840"/>
          <a:ext cx="5784840" cy="42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2080" y="3687840"/>
                    <a:ext cx="57848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946080" y="4730760"/>
          <a:ext cx="6802560" cy="90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46080" y="4730760"/>
                    <a:ext cx="680256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6773760" y="4876920"/>
            <a:ext cx="1067040" cy="53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76320" y="12600"/>
          <a:ext cx="876276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600"/>
                    <a:ext cx="876276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371600" y="2438280"/>
          <a:ext cx="6400800" cy="16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438280"/>
                    <a:ext cx="640080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276720" y="4876920"/>
          <a:ext cx="239688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876920"/>
                    <a:ext cx="23968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5195880" y="4829040"/>
            <a:ext cx="53352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8600" y="0"/>
            <a:ext cx="86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lex runs at a constant rate of 6 miles per hour.  Black runs at a constant rate of 8 miles per hour.  Crain runs at a constant rate of 9 miles per hour.  In a relay race with these three runners as a team running one right after another, Alex runs 0.3 miles, Black runs 0.4 miles, and Crain runs 0.5 miles.  What is the team’s average speed in miles per hour?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38080" y="2498760"/>
          <a:ext cx="4365720" cy="85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498760"/>
                    <a:ext cx="436572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6705720" y="2376360"/>
          <a:ext cx="803160" cy="12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2376360"/>
                    <a:ext cx="803160" cy="120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133720" y="3852720"/>
          <a:ext cx="5092560" cy="155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3852720"/>
                    <a:ext cx="509256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5162400" y="4191120"/>
            <a:ext cx="476280" cy="838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52280" y="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4. A  videotape can record 2 hours on short play, 4 hours on long play, or 6 hours on extra long play.  After recording for 30 minutes on long play and 45 minutes on short play, how many minutes can it record on extra long pl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905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part of the tape that has been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00040" y="2627280"/>
          <a:ext cx="757728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627280"/>
                    <a:ext cx="757728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685800" y="4027320"/>
          <a:ext cx="7475400" cy="130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027320"/>
                    <a:ext cx="747540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6553080" y="4876920"/>
            <a:ext cx="167652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8600" y="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area of the circle that passes through X, Y, and Z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174680" y="1200240"/>
            <a:ext cx="3595680" cy="1495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055520" y="1523880"/>
            <a:ext cx="3886200" cy="38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53352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ose a coordinate system and construct radi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65080" y="346068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989440" y="11426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979720" y="239040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1446120" y="2371320"/>
            <a:ext cx="15242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655360" y="1523880"/>
            <a:ext cx="3049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36960" y="3505320"/>
          <a:ext cx="838080" cy="57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6960" y="3505320"/>
                    <a:ext cx="838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627440" y="2013120"/>
          <a:ext cx="1011240" cy="57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27440" y="2013120"/>
                    <a:ext cx="10112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0" y="1981080"/>
          <a:ext cx="1243080" cy="577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1981080"/>
                    <a:ext cx="1243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357200" y="838080"/>
          <a:ext cx="1532160" cy="577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57200" y="838080"/>
                    <a:ext cx="153216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3809880" y="2895480"/>
          <a:ext cx="260640" cy="289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09880" y="2895480"/>
                    <a:ext cx="26064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1873080" y="2895480"/>
          <a:ext cx="260640" cy="289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873080" y="2895480"/>
                    <a:ext cx="26064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2673360" y="159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019920" y="1066680"/>
          <a:ext cx="2357280" cy="1105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019920" y="1066680"/>
                    <a:ext cx="235728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5443560" y="2666880"/>
          <a:ext cx="3510000" cy="1908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443560" y="2666880"/>
                    <a:ext cx="3510000" cy="19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5638680" y="4834080"/>
          <a:ext cx="2884680" cy="652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638680" y="4834080"/>
                    <a:ext cx="28846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437080" y="5799240"/>
          <a:ext cx="3135600" cy="677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437080" y="5799240"/>
                    <a:ext cx="31356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7834320" y="5952960"/>
            <a:ext cx="762120" cy="38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5800" y="866880"/>
            <a:ext cx="4572000" cy="27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-6480" y="114480"/>
          <a:ext cx="9122040" cy="118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480" y="114480"/>
                    <a:ext cx="912204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2739960" y="3632040"/>
          <a:ext cx="3863880" cy="403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39960" y="3632040"/>
                    <a:ext cx="3863880" cy="4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943600" y="1873080"/>
          <a:ext cx="2209680" cy="109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43600" y="1873080"/>
                    <a:ext cx="2209680" cy="1098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2746440" y="4410000"/>
          <a:ext cx="4314600" cy="781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46440" y="4410000"/>
                    <a:ext cx="431460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52280" y="5467320"/>
          <a:ext cx="4314960" cy="781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280" y="5467320"/>
                    <a:ext cx="431496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4511520" y="5467320"/>
          <a:ext cx="4365720" cy="781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11520" y="5467320"/>
                    <a:ext cx="436572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8305920" y="5638680"/>
            <a:ext cx="609480" cy="38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2280" y="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7.  How many ordered triples (a, b, c) have the property that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number is the product of the other tw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152360" y="914400"/>
          <a:ext cx="828720" cy="12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914400"/>
                    <a:ext cx="82872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2900520" y="1327320"/>
          <a:ext cx="4846320" cy="50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0520" y="1327320"/>
                    <a:ext cx="48463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228600" y="2362320"/>
          <a:ext cx="120492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2362320"/>
                    <a:ext cx="12049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47760" y="2743200"/>
          <a:ext cx="8034120" cy="770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7760" y="2743200"/>
                    <a:ext cx="803412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641520" y="3733920"/>
          <a:ext cx="7588080" cy="44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1520" y="3733920"/>
                    <a:ext cx="75880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874800" y="4419720"/>
          <a:ext cx="7215120" cy="446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74800" y="4419720"/>
                    <a:ext cx="721512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3535200" y="5029200"/>
          <a:ext cx="2065680" cy="496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35200" y="5029200"/>
                    <a:ext cx="206568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304920" y="5573880"/>
          <a:ext cx="8534160" cy="446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4920" y="5573880"/>
                    <a:ext cx="85341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3343320" y="6208560"/>
          <a:ext cx="2463840" cy="497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343320" y="6208560"/>
                    <a:ext cx="246384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7236000" y="6288120"/>
          <a:ext cx="225360" cy="347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36000" y="6288120"/>
                    <a:ext cx="2253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7162920" y="6262560"/>
            <a:ext cx="380880" cy="38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81680" y="1295280"/>
            <a:ext cx="990720" cy="53352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86240" y="5043600"/>
            <a:ext cx="838080" cy="4572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19720" y="5029200"/>
            <a:ext cx="1218960" cy="4572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6248520"/>
            <a:ext cx="1280880" cy="428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33920" y="6248520"/>
            <a:ext cx="1157400" cy="428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147600" y="90360"/>
          <a:ext cx="894384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90360"/>
                    <a:ext cx="89438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2979720" y="1066680"/>
          <a:ext cx="297000" cy="76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9720" y="1066680"/>
                    <a:ext cx="29700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7620120" y="4952880"/>
            <a:ext cx="685800" cy="914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838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992320" y="2133720"/>
          <a:ext cx="1236960" cy="76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92320" y="2133720"/>
                    <a:ext cx="123696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984400" y="3276720"/>
          <a:ext cx="1683000" cy="76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84400" y="3276720"/>
                    <a:ext cx="168300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3000240" y="5022720"/>
          <a:ext cx="5372280" cy="7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00240" y="5022720"/>
                    <a:ext cx="537228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3753000" y="4206960"/>
          <a:ext cx="287280" cy="66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53000" y="4206960"/>
                    <a:ext cx="287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16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blo’s Pizza Place sells a 6-inch diameter pizza for $5, an 8-inch diameter pizza for $7, and a 10-inch diameter pizza for $10.  Which is the best bu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1523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price per square i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1280" y="2362320"/>
          <a:ext cx="5834160" cy="30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2362320"/>
                    <a:ext cx="5834160" cy="30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362320" y="59436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10-inch pizza is the best bu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33520" y="5838840"/>
            <a:ext cx="434340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763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a 60-question test, 36 questions involve algebra and 12 questions are difficult.  If 5 of the difficult questions involve algebra, how many of the questions that are not difficult do not involve algebra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76520" y="2260440"/>
            <a:ext cx="3047760" cy="284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9880" y="2260440"/>
            <a:ext cx="3048120" cy="284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084560" y="3324240"/>
          <a:ext cx="3700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4560" y="3324240"/>
                    <a:ext cx="3700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2523960" y="3305160"/>
          <a:ext cx="57492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3960" y="3305160"/>
                    <a:ext cx="5749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375160" y="3295800"/>
          <a:ext cx="409680" cy="57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5160" y="3295800"/>
                    <a:ext cx="4096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2590920" y="2328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0060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14640" y="295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557440" y="5672160"/>
          <a:ext cx="376704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57440" y="5672160"/>
                    <a:ext cx="37670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5700600" y="5686560"/>
            <a:ext cx="609840" cy="53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1676520"/>
            <a:ext cx="6553080" cy="373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1676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Test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52280" y="316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many cards must you draw from a deck of 52 cards to be certain that you have at least 6 of the same color if the deck has 13 blue, 13 green, 13 red, and 13 white card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14479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as the cards are drawn they are equally distrib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2590920"/>
            <a:ext cx="3808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71800" y="2743200"/>
            <a:ext cx="3808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2895480"/>
            <a:ext cx="3812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3048120"/>
            <a:ext cx="3808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3200400"/>
            <a:ext cx="3808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080" y="2590920"/>
            <a:ext cx="381240" cy="5331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90720" y="2743200"/>
            <a:ext cx="380880" cy="5335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2895480"/>
            <a:ext cx="380880" cy="5335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95280" y="3048120"/>
            <a:ext cx="381240" cy="5331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47920" y="3200400"/>
            <a:ext cx="380880" cy="5335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2590920"/>
            <a:ext cx="380880" cy="5331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2743200"/>
            <a:ext cx="38124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2895480"/>
            <a:ext cx="38088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3048120"/>
            <a:ext cx="380880" cy="5331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10080" y="3200400"/>
            <a:ext cx="38124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81680" y="266688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34320" y="2819520"/>
            <a:ext cx="3808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9718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312408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391520" y="3276720"/>
            <a:ext cx="3808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4343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atter the color of the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rd one of the colors will have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4052880" y="5386320"/>
          <a:ext cx="615960" cy="5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52880" y="5386320"/>
                    <a:ext cx="61596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962520" y="5334120"/>
            <a:ext cx="8380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457200" y="763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rithmetic mean of 20 numbers is what percent of the sum of the same 20 number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857160" y="1596960"/>
          <a:ext cx="7448760" cy="21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596960"/>
                    <a:ext cx="744876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7772400" y="2384280"/>
            <a:ext cx="60948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52280" y="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2.  A point (x, y) is randomly picked from inside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ctangle with vertices at (0, 0), (5, 0), (5, 1), and (0, 1)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probability that x &gt; 2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HandyGraph1"/>
          <p:cNvGrpSpPr/>
          <p:nvPr/>
        </p:nvGrpSpPr>
        <p:grpSpPr>
          <a:xfrm>
            <a:off x="1675440" y="1447920"/>
            <a:ext cx="5707080" cy="2044440"/>
            <a:chOff x="1675440" y="1447920"/>
            <a:chExt cx="5707080" cy="2044440"/>
          </a:xfrm>
        </p:grpSpPr>
        <p:sp>
          <p:nvSpPr>
            <p:cNvPr id="349" name="FrameHG" hidden="1"/>
            <p:cNvSpPr/>
            <p:nvPr/>
          </p:nvSpPr>
          <p:spPr>
            <a:xfrm>
              <a:off x="1901880" y="1773360"/>
              <a:ext cx="5116320" cy="146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xMinLHG,0001001001,0"/>
            <p:cNvSpPr/>
            <p:nvPr/>
          </p:nvSpPr>
          <p:spPr>
            <a:xfrm flipV="1">
              <a:off x="1901880" y="3177720"/>
              <a:ext cx="0" cy="12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xMaxLHG,6,1"/>
            <p:cNvSpPr/>
            <p:nvPr/>
          </p:nvSpPr>
          <p:spPr>
            <a:xfrm flipV="1">
              <a:off x="7018200" y="3177720"/>
              <a:ext cx="0" cy="12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xGLHG1"/>
            <p:cNvSpPr/>
            <p:nvPr/>
          </p:nvSpPr>
          <p:spPr>
            <a:xfrm flipV="1">
              <a:off x="1901880" y="3177720"/>
              <a:ext cx="0" cy="12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xGLHG2"/>
            <p:cNvSpPr/>
            <p:nvPr/>
          </p:nvSpPr>
          <p:spPr>
            <a:xfrm flipV="1">
              <a:off x="2754720" y="3177720"/>
              <a:ext cx="0" cy="12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xGLHG3"/>
            <p:cNvSpPr/>
            <p:nvPr/>
          </p:nvSpPr>
          <p:spPr>
            <a:xfrm flipV="1">
              <a:off x="3607560" y="3177720"/>
              <a:ext cx="0" cy="12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xGLHG4"/>
            <p:cNvSpPr/>
            <p:nvPr/>
          </p:nvSpPr>
          <p:spPr>
            <a:xfrm flipV="1">
              <a:off x="4460400" y="3177720"/>
              <a:ext cx="0" cy="12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xGLHG5"/>
            <p:cNvSpPr/>
            <p:nvPr/>
          </p:nvSpPr>
          <p:spPr>
            <a:xfrm flipV="1">
              <a:off x="5313240" y="3177720"/>
              <a:ext cx="0" cy="12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xGLHG6"/>
            <p:cNvSpPr/>
            <p:nvPr/>
          </p:nvSpPr>
          <p:spPr>
            <a:xfrm flipV="1">
              <a:off x="6165720" y="3177720"/>
              <a:ext cx="0" cy="12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xGLHG7"/>
            <p:cNvSpPr/>
            <p:nvPr/>
          </p:nvSpPr>
          <p:spPr>
            <a:xfrm flipV="1">
              <a:off x="7018200" y="3177720"/>
              <a:ext cx="0" cy="12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yALblHG"/>
            <p:cNvSpPr/>
            <p:nvPr/>
          </p:nvSpPr>
          <p:spPr>
            <a:xfrm>
              <a:off x="1991520" y="14479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yMinLHG,0,00101110"/>
            <p:cNvSpPr/>
            <p:nvPr/>
          </p:nvSpPr>
          <p:spPr>
            <a:xfrm>
              <a:off x="1833480" y="3238920"/>
              <a:ext cx="13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yMaxLHG,2,1"/>
            <p:cNvSpPr/>
            <p:nvPr/>
          </p:nvSpPr>
          <p:spPr>
            <a:xfrm>
              <a:off x="1833480" y="1773360"/>
              <a:ext cx="13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yGLHG1"/>
            <p:cNvSpPr/>
            <p:nvPr/>
          </p:nvSpPr>
          <p:spPr>
            <a:xfrm>
              <a:off x="1833480" y="3238920"/>
              <a:ext cx="13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yGLHG2"/>
            <p:cNvSpPr/>
            <p:nvPr/>
          </p:nvSpPr>
          <p:spPr>
            <a:xfrm>
              <a:off x="1833480" y="2506320"/>
              <a:ext cx="13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yGLHG3"/>
            <p:cNvSpPr/>
            <p:nvPr/>
          </p:nvSpPr>
          <p:spPr>
            <a:xfrm>
              <a:off x="1833480" y="1773360"/>
              <a:ext cx="13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xALblHG"/>
            <p:cNvSpPr/>
            <p:nvPr/>
          </p:nvSpPr>
          <p:spPr>
            <a:xfrm>
              <a:off x="7317720" y="3117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xALHG"/>
            <p:cNvSpPr/>
            <p:nvPr/>
          </p:nvSpPr>
          <p:spPr>
            <a:xfrm>
              <a:off x="1901880" y="3238920"/>
              <a:ext cx="5368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yALHG"/>
            <p:cNvSpPr/>
            <p:nvPr/>
          </p:nvSpPr>
          <p:spPr>
            <a:xfrm flipV="1">
              <a:off x="1901880" y="1549440"/>
              <a:ext cx="0" cy="168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GLblHG1"/>
            <p:cNvSpPr/>
            <p:nvPr/>
          </p:nvSpPr>
          <p:spPr>
            <a:xfrm>
              <a:off x="6986160" y="3339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GLblHG3"/>
            <p:cNvSpPr/>
            <p:nvPr/>
          </p:nvSpPr>
          <p:spPr>
            <a:xfrm>
              <a:off x="3574440" y="3339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GLblHG5"/>
            <p:cNvSpPr/>
            <p:nvPr/>
          </p:nvSpPr>
          <p:spPr>
            <a:xfrm>
              <a:off x="5281200" y="3339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GLblHG7"/>
            <p:cNvSpPr/>
            <p:nvPr/>
          </p:nvSpPr>
          <p:spPr>
            <a:xfrm>
              <a:off x="6986160" y="3339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GLblHG9"/>
            <p:cNvSpPr/>
            <p:nvPr/>
          </p:nvSpPr>
          <p:spPr>
            <a:xfrm>
              <a:off x="1675440" y="1662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GLblHG11"/>
            <p:cNvSpPr/>
            <p:nvPr/>
          </p:nvSpPr>
          <p:spPr>
            <a:xfrm>
              <a:off x="1675440" y="1662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GLblHG2"/>
            <p:cNvSpPr/>
            <p:nvPr/>
          </p:nvSpPr>
          <p:spPr>
            <a:xfrm>
              <a:off x="2720160" y="3339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GLblHG6"/>
            <p:cNvSpPr/>
            <p:nvPr/>
          </p:nvSpPr>
          <p:spPr>
            <a:xfrm>
              <a:off x="6133320" y="3339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GLblHG10"/>
            <p:cNvSpPr/>
            <p:nvPr/>
          </p:nvSpPr>
          <p:spPr>
            <a:xfrm>
              <a:off x="1675440" y="2395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GLblHG4"/>
            <p:cNvSpPr/>
            <p:nvPr/>
          </p:nvSpPr>
          <p:spPr>
            <a:xfrm>
              <a:off x="4428360" y="3339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GLblHG0"/>
            <p:cNvSpPr/>
            <p:nvPr/>
          </p:nvSpPr>
          <p:spPr>
            <a:xfrm>
              <a:off x="1868760" y="3339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GLblHG8"/>
            <p:cNvSpPr/>
            <p:nvPr/>
          </p:nvSpPr>
          <p:spPr>
            <a:xfrm>
              <a:off x="1675440" y="3126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905120" y="3238560"/>
            <a:ext cx="4267080" cy="0"/>
          </a:xfrm>
          <a:prstGeom prst="line">
            <a:avLst/>
          </a:prstGeom>
          <a:ln w="93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05120" y="2505240"/>
            <a:ext cx="4267080" cy="0"/>
          </a:xfrm>
          <a:prstGeom prst="line">
            <a:avLst/>
          </a:prstGeom>
          <a:ln w="93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162840" y="2495160"/>
            <a:ext cx="0" cy="762120"/>
          </a:xfrm>
          <a:prstGeom prst="line">
            <a:avLst/>
          </a:prstGeom>
          <a:ln w="93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905120" y="2495160"/>
            <a:ext cx="0" cy="762120"/>
          </a:xfrm>
          <a:prstGeom prst="line">
            <a:avLst/>
          </a:prstGeom>
          <a:ln w="93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1560600" y="1557360"/>
            <a:ext cx="4308120" cy="183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004080" y="1219320"/>
          <a:ext cx="1616040" cy="76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4080" y="1219320"/>
                    <a:ext cx="161604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692280" y="3809880"/>
          <a:ext cx="7232400" cy="213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3809880"/>
                    <a:ext cx="723240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7281720" y="4829040"/>
            <a:ext cx="60984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47520" y="71280"/>
          <a:ext cx="8991720" cy="9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71280"/>
                    <a:ext cx="899172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228600" y="1747800"/>
          <a:ext cx="7682040" cy="86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747800"/>
                    <a:ext cx="76820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1781280" y="2200320"/>
          <a:ext cx="6257880" cy="38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81280" y="2200320"/>
                    <a:ext cx="625788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1911240" y="2738520"/>
          <a:ext cx="5437440" cy="38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11240" y="2738520"/>
                    <a:ext cx="5437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3597120" y="3429000"/>
          <a:ext cx="1812960" cy="48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97120" y="3429000"/>
                    <a:ext cx="18129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4710240" y="3386160"/>
            <a:ext cx="76176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-1440" y="114480"/>
          <a:ext cx="9090000" cy="12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" y="114480"/>
                    <a:ext cx="909000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1600200" y="1447920"/>
            <a:ext cx="5410080" cy="7642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um of the lengths of any two sides must be greater than the length of the third sid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57280" y="2438280"/>
          <a:ext cx="7977240" cy="8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7280" y="2438280"/>
                    <a:ext cx="797724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609480" y="3408480"/>
          <a:ext cx="6527880" cy="116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408480"/>
                    <a:ext cx="652788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685800" y="4724280"/>
          <a:ext cx="6164280" cy="387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4724280"/>
                    <a:ext cx="61642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763560" y="5251320"/>
          <a:ext cx="5464080" cy="38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3560" y="5251320"/>
                    <a:ext cx="54640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3505320" y="5943600"/>
          <a:ext cx="1619280" cy="387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5943600"/>
                    <a:ext cx="16192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4572000" y="5929200"/>
            <a:ext cx="609480" cy="38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228600" y="114480"/>
          <a:ext cx="8340840" cy="12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480"/>
                    <a:ext cx="834084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1600200" y="1539720"/>
          <a:ext cx="551196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539720"/>
                    <a:ext cx="551196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228600" y="2362320"/>
          <a:ext cx="8147160" cy="15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2362320"/>
                    <a:ext cx="8147160" cy="15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173160" y="3897360"/>
          <a:ext cx="8437320" cy="75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3160" y="3897360"/>
                    <a:ext cx="84373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193680" y="4735440"/>
          <a:ext cx="8412120" cy="75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3680" y="4735440"/>
                    <a:ext cx="84121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1884240" y="5618160"/>
          <a:ext cx="4592880" cy="89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84240" y="5618160"/>
                    <a:ext cx="459288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6019920" y="5638680"/>
            <a:ext cx="609480" cy="762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166680" y="152280"/>
          <a:ext cx="882504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52280"/>
                    <a:ext cx="882504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"/>
          <p:cNvSpPr/>
          <p:nvPr/>
        </p:nvSpPr>
        <p:spPr>
          <a:xfrm>
            <a:off x="1905120" y="12952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a list of powers starting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33720" y="2058840"/>
            <a:ext cx="761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1             2      3      4      5      6      7      8      9   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895480" y="2058840"/>
            <a:ext cx="76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^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1           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2057400"/>
            <a:ext cx="76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^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1            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24280" y="2058840"/>
            <a:ext cx="76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^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1            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715000" y="2058840"/>
            <a:ext cx="1066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^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1             32    243 1024 3125 7776 16807 32768 59049  1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962520" y="5757840"/>
          <a:ext cx="652320" cy="33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5757840"/>
                    <a:ext cx="65232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3886200" y="5715000"/>
            <a:ext cx="83808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38160" y="76320"/>
          <a:ext cx="8953560" cy="84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76320"/>
                    <a:ext cx="895356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2057400" y="2057400"/>
            <a:ext cx="1523880" cy="1523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86200" y="1295280"/>
            <a:ext cx="3200400" cy="3200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28195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838600" y="226692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035160" y="2527200"/>
          <a:ext cx="31752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5160" y="2527200"/>
                    <a:ext cx="3175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2492280" y="2724120"/>
          <a:ext cx="228600" cy="2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92280" y="2724120"/>
                    <a:ext cx="22860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3543480" y="2286000"/>
          <a:ext cx="203040" cy="24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43480" y="2286000"/>
                    <a:ext cx="20304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5486400" y="28954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5486400" y="2209320"/>
            <a:ext cx="14479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6102360" y="2546280"/>
          <a:ext cx="374760" cy="333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02360" y="2546280"/>
                    <a:ext cx="3747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5181480" y="2819520"/>
          <a:ext cx="228600" cy="247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81480" y="2819520"/>
                    <a:ext cx="22860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7086600" y="2362320"/>
          <a:ext cx="203040" cy="247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86600" y="2362320"/>
                    <a:ext cx="20304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1905120" y="1066680"/>
          <a:ext cx="2492280" cy="925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05120" y="1066680"/>
                    <a:ext cx="24922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76320" y="3330720"/>
          <a:ext cx="2403360" cy="1164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320" y="3330720"/>
                    <a:ext cx="2403360" cy="11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304920" y="4572000"/>
          <a:ext cx="8456400" cy="2220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4920" y="4572000"/>
                    <a:ext cx="845640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8294760" y="5153040"/>
            <a:ext cx="533160" cy="1066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6629400" y="3505320"/>
          <a:ext cx="2403360" cy="1164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629400" y="3505320"/>
                    <a:ext cx="2403360" cy="11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304920" y="31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equence 2, 3, 5, 6, 7, 10, 11, 12, 13, 14, 15, 17, … consists of all positive integers that are not squares or cubes.  What is the 5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rm of the sequenc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1295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are no squares or cubes the 5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rm would be 5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" y="19051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s:  4, 9, 16, 25, 36, 49, 64, 81, 100, 121, 144, 169, 196, 225,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, 289, 324, 361, 400, 441, 484, 529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8760" y="2895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es:  8, 27, 64, 125, 216, 343, 512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43000" y="3581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quare and cube increases the 5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rm by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43434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re are 26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quares or cubes less than 500 the 5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rm would be increased to 52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19320" y="55022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at there is a cube between 500 and 527, so the 5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rm would be increased to 52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91320" y="5915160"/>
            <a:ext cx="609480" cy="380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09680" y="2895480"/>
            <a:ext cx="533520" cy="53352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63880" y="1893960"/>
            <a:ext cx="533520" cy="53316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76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c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the time was Eric driving at 50 miles per hour or slow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5160" y="1468440"/>
          <a:ext cx="488772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0" y="1468440"/>
                    <a:ext cx="488772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587840" y="1828800"/>
          <a:ext cx="4362480" cy="98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87840" y="1828800"/>
                    <a:ext cx="436248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194440" y="3124080"/>
          <a:ext cx="2943000" cy="125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94440" y="3124080"/>
                    <a:ext cx="294300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353200" y="4724280"/>
          <a:ext cx="1199880" cy="382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53200" y="4724280"/>
                    <a:ext cx="119988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95440" y="3086280"/>
            <a:ext cx="403848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124600"/>
            <a:ext cx="7621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8280" y="511488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4648320"/>
            <a:ext cx="1066680" cy="53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152280" y="112680"/>
          <a:ext cx="6585120" cy="10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2680"/>
                    <a:ext cx="658512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1981080" y="1382760"/>
            <a:ext cx="478152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1" name=""/>
          <p:cNvGraphicFramePr/>
          <p:nvPr/>
        </p:nvGraphicFramePr>
        <p:xfrm>
          <a:off x="1954080" y="2362320"/>
          <a:ext cx="482760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4080" y="2362320"/>
                    <a:ext cx="4827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2819520" y="3429000"/>
          <a:ext cx="3000240" cy="561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3429000"/>
                    <a:ext cx="30002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3803760" y="4578480"/>
          <a:ext cx="1149120" cy="37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3760" y="4578480"/>
                    <a:ext cx="114912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4114800" y="5562720"/>
          <a:ext cx="492120" cy="374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14800" y="5562720"/>
                    <a:ext cx="49212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4005360" y="5438880"/>
            <a:ext cx="68580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52280" y="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positive integer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er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f the digits of one of the integers, when written in reverse order, are the digits of the other integer (i.e. 63 and 36).  What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versible numbers whose product is 394,695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6320" y="1600200"/>
            <a:ext cx="5943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th integers must have the same number of digi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320" y="2057400"/>
            <a:ext cx="7162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iven the size of their product both integers must be 3 digi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52280" y="32004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ce their product ends with a 5 the last digit of one of them must be a 5 which makes the first digit of the other a 5 al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4920" y="464832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, the other end digit must be odd for the product to end in a 5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590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 ___ ___    and    ___ ___ 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33720" y="40384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 ___ 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   and    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___ 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133720" y="52578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d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___ 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   and    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___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0880" y="597384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list of possibilities shows 735 x 537 = 394,695.            735,53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05720" y="5867280"/>
            <a:ext cx="137160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04920" y="76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e-brea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 (Show your work and give an explanation of your answer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425520" y="681120"/>
          <a:ext cx="6584760" cy="84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681120"/>
                    <a:ext cx="658476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404640" y="2209680"/>
          <a:ext cx="119556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4640" y="2209680"/>
                    <a:ext cx="11955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776160" y="2832120"/>
          <a:ext cx="6843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6160" y="2832120"/>
                    <a:ext cx="6843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762120" y="3389400"/>
          <a:ext cx="6843600" cy="42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389400"/>
                    <a:ext cx="684360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453960" y="3998880"/>
          <a:ext cx="8461440" cy="420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3960" y="3998880"/>
                    <a:ext cx="84614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685800" y="4684680"/>
          <a:ext cx="5343480" cy="42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" y="4684680"/>
                    <a:ext cx="53434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"/>
          <p:cNvSpPr/>
          <p:nvPr/>
        </p:nvSpPr>
        <p:spPr>
          <a:xfrm>
            <a:off x="6248520" y="46483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04920" y="76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e-brea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 (Show your work and give an explanation of your answer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425520" y="681120"/>
          <a:ext cx="6584760" cy="84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681120"/>
                    <a:ext cx="658476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457200" y="1752480"/>
          <a:ext cx="138276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752480"/>
                    <a:ext cx="13827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876240" y="2309760"/>
          <a:ext cx="719460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76240" y="2309760"/>
                    <a:ext cx="719460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138240" y="2886120"/>
          <a:ext cx="5881680" cy="46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8240" y="2886120"/>
                    <a:ext cx="58816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"/>
          <p:cNvGraphicFramePr/>
          <p:nvPr/>
        </p:nvGraphicFramePr>
        <p:xfrm>
          <a:off x="1749600" y="3551400"/>
          <a:ext cx="5413320" cy="79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49600" y="3551400"/>
                    <a:ext cx="5413320" cy="792000"/>
                  </a:xfrm>
                  <a:prstGeom prst="rect">
                    <a:avLst/>
                  </a:prstGeom>
                  <a:ln w="936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2163600" y="4572000"/>
          <a:ext cx="4146840" cy="468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63600" y="4572000"/>
                    <a:ext cx="41468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819520" y="5170320"/>
          <a:ext cx="2833560" cy="468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19520" y="5170320"/>
                    <a:ext cx="28335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1119240" y="5902200"/>
          <a:ext cx="5738760" cy="374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19240" y="5902200"/>
                    <a:ext cx="573876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"/>
          <p:cNvSpPr/>
          <p:nvPr/>
        </p:nvSpPr>
        <p:spPr>
          <a:xfrm>
            <a:off x="6829560" y="57927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838080" y="22543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t practicing for next year’s contes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04920" y="2286000"/>
          <a:ext cx="488772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0"/>
                    <a:ext cx="488772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80880" y="158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What was Eric’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erage sp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in miles per hour,                                   between 8:30 and 10:3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33520" y="1127160"/>
          <a:ext cx="4365360" cy="85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127160"/>
                    <a:ext cx="436536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4797360" y="941400"/>
          <a:ext cx="3813120" cy="12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7360" y="941400"/>
                    <a:ext cx="381312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840280" y="2438280"/>
          <a:ext cx="1932120" cy="40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40280" y="2438280"/>
                    <a:ext cx="19321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172200" y="2362320"/>
            <a:ext cx="1600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2640" y="403848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70000" y="4038480"/>
            <a:ext cx="7621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403848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763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 How man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riangles are in this figu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315200" y="76320"/>
            <a:ext cx="1638360" cy="1469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2210040" cy="1982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80880" y="2589120"/>
            <a:ext cx="2210040" cy="1982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352680" y="2589120"/>
            <a:ext cx="2210040" cy="1982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6400800" y="2590920"/>
            <a:ext cx="2209680" cy="1982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04920" y="4799160"/>
            <a:ext cx="2209680" cy="1982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3352680" y="4799160"/>
            <a:ext cx="2210040" cy="1982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6477120" y="4799160"/>
            <a:ext cx="2209680" cy="198252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723960" y="774360"/>
            <a:ext cx="1377720" cy="1676520"/>
            <a:chOff x="723960" y="774360"/>
            <a:chExt cx="1377720" cy="1676520"/>
          </a:xfrm>
        </p:grpSpPr>
        <p:sp>
          <p:nvSpPr>
            <p:cNvPr id="87" name=""/>
            <p:cNvSpPr/>
            <p:nvPr/>
          </p:nvSpPr>
          <p:spPr>
            <a:xfrm>
              <a:off x="730080" y="2406600"/>
              <a:ext cx="1371600" cy="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23960" y="774360"/>
              <a:ext cx="685800" cy="167652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1409400" y="806040"/>
              <a:ext cx="685800" cy="160020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88880" y="2723760"/>
            <a:ext cx="1974600" cy="616320"/>
            <a:chOff x="488880" y="2723760"/>
            <a:chExt cx="1974600" cy="616320"/>
          </a:xfrm>
        </p:grpSpPr>
        <p:sp>
          <p:nvSpPr>
            <p:cNvPr id="91" name=""/>
            <p:cNvSpPr/>
            <p:nvPr/>
          </p:nvSpPr>
          <p:spPr>
            <a:xfrm>
              <a:off x="527040" y="3340080"/>
              <a:ext cx="1905120" cy="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88880" y="2723760"/>
              <a:ext cx="914400" cy="60948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1396800" y="2723760"/>
              <a:ext cx="1066680" cy="60948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479760" y="3340080"/>
            <a:ext cx="1930320" cy="552600"/>
            <a:chOff x="3479760" y="3340080"/>
            <a:chExt cx="1930320" cy="552600"/>
          </a:xfrm>
        </p:grpSpPr>
        <p:sp>
          <p:nvSpPr>
            <p:cNvPr id="95" name=""/>
            <p:cNvSpPr/>
            <p:nvPr/>
          </p:nvSpPr>
          <p:spPr>
            <a:xfrm>
              <a:off x="3498840" y="3340080"/>
              <a:ext cx="1905120" cy="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79760" y="3359160"/>
              <a:ext cx="914400" cy="53352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419720" y="3359160"/>
              <a:ext cx="990360" cy="53352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75560" y="3917520"/>
            <a:ext cx="1301760" cy="394200"/>
            <a:chOff x="6775560" y="3917520"/>
            <a:chExt cx="1301760" cy="394200"/>
          </a:xfrm>
        </p:grpSpPr>
        <p:sp>
          <p:nvSpPr>
            <p:cNvPr id="99" name=""/>
            <p:cNvSpPr/>
            <p:nvPr/>
          </p:nvSpPr>
          <p:spPr>
            <a:xfrm>
              <a:off x="6781680" y="4311720"/>
              <a:ext cx="1295640" cy="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775560" y="3917520"/>
              <a:ext cx="685800" cy="38124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7467480" y="3917520"/>
              <a:ext cx="609840" cy="38124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301760" y="4921200"/>
            <a:ext cx="1092240" cy="996840"/>
            <a:chOff x="1301760" y="4921200"/>
            <a:chExt cx="1092240" cy="996840"/>
          </a:xfrm>
        </p:grpSpPr>
        <p:sp>
          <p:nvSpPr>
            <p:cNvPr id="103" name=""/>
            <p:cNvSpPr/>
            <p:nvPr/>
          </p:nvSpPr>
          <p:spPr>
            <a:xfrm>
              <a:off x="1301760" y="4921200"/>
              <a:ext cx="457200" cy="99072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14360" y="4933800"/>
              <a:ext cx="1067040" cy="60984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708200" y="5537160"/>
              <a:ext cx="685800" cy="38088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108320" y="4940280"/>
            <a:ext cx="546120" cy="622440"/>
            <a:chOff x="4108320" y="4940280"/>
            <a:chExt cx="546120" cy="622440"/>
          </a:xfrm>
        </p:grpSpPr>
        <p:sp>
          <p:nvSpPr>
            <p:cNvPr id="107" name=""/>
            <p:cNvSpPr/>
            <p:nvPr/>
          </p:nvSpPr>
          <p:spPr>
            <a:xfrm flipV="1">
              <a:off x="4114800" y="4952880"/>
              <a:ext cx="228600" cy="60984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08320" y="5549760"/>
              <a:ext cx="533520" cy="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49880" y="4940280"/>
              <a:ext cx="304560" cy="60948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7772400" y="5537160"/>
            <a:ext cx="781200" cy="990720"/>
            <a:chOff x="7772400" y="5537160"/>
            <a:chExt cx="781200" cy="990720"/>
          </a:xfrm>
        </p:grpSpPr>
        <p:sp>
          <p:nvSpPr>
            <p:cNvPr id="111" name=""/>
            <p:cNvSpPr/>
            <p:nvPr/>
          </p:nvSpPr>
          <p:spPr>
            <a:xfrm>
              <a:off x="7772400" y="5562720"/>
              <a:ext cx="380880" cy="91440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72400" y="5549760"/>
              <a:ext cx="762120" cy="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8172360" y="5537160"/>
              <a:ext cx="381240" cy="99072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4" name=""/>
          <p:cNvGraphicFramePr/>
          <p:nvPr/>
        </p:nvGraphicFramePr>
        <p:xfrm>
          <a:off x="3470400" y="1295280"/>
          <a:ext cx="3387600" cy="501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70400" y="1295280"/>
                    <a:ext cx="33876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6448320" y="1295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533520" y="133200"/>
          <a:ext cx="685800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3200"/>
                    <a:ext cx="68580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666880" y="1066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in parenth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09640" y="1895400"/>
          <a:ext cx="4767480" cy="69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9640" y="1895400"/>
                    <a:ext cx="476748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897200" y="2840040"/>
          <a:ext cx="4392360" cy="58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97200" y="2840040"/>
                    <a:ext cx="43923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5853240" y="28954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9216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many positive two-digit numbers are increased by exactly 9 when the digits are reverse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066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2575080"/>
            <a:ext cx="1067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10       11      12      13      14      15      16      17      18     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2575080"/>
            <a:ext cx="12193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vers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1                                                                                                                                                                     11             21         31         41          51         61         71              81         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9960" y="3538440"/>
            <a:ext cx="1524240" cy="30492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70640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increase by 9 happens when the units and tens digits are consecutiv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79404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   32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409896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4   43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440388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5   54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470844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6   65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501336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7   76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531828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8   87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96080" y="562284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9   98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71600" y="3795840"/>
            <a:ext cx="914400" cy="38088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71960" y="4100400"/>
            <a:ext cx="914400" cy="38124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24440" y="4400640"/>
            <a:ext cx="914400" cy="38088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15080" y="4705200"/>
            <a:ext cx="914400" cy="38124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2600" y="5014800"/>
            <a:ext cx="914400" cy="38124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53240" y="5315040"/>
            <a:ext cx="914400" cy="38088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1400" y="5624640"/>
            <a:ext cx="914400" cy="38088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388200" y="3054240"/>
          <a:ext cx="241200" cy="3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8200" y="3054240"/>
                    <a:ext cx="24120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310440" y="2957400"/>
            <a:ext cx="38088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763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.  What number should be removed from the list 17, 19, 21, 23, 25, …, 97, 99 so that the average of the remaining numbers is 59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62120" y="1371600"/>
          <a:ext cx="6910200" cy="9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1600"/>
                    <a:ext cx="691020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243080" y="2443320"/>
          <a:ext cx="5946840" cy="90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2443320"/>
                    <a:ext cx="594684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459240" y="3666960"/>
          <a:ext cx="187488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59240" y="3666960"/>
                    <a:ext cx="18748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962520" y="5873760"/>
          <a:ext cx="88236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2520" y="5873760"/>
                    <a:ext cx="88236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421080" y="4952880"/>
          <a:ext cx="2141640" cy="37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1080" y="4952880"/>
                    <a:ext cx="214164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3871800" y="5757840"/>
            <a:ext cx="106704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9216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egular polygon has sides of length 3 units and an exterior angle of 24 degrees.  What is the perimeter of the polygon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1539720"/>
            <a:ext cx="609624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ns all sides have the same length and all interior angles have the same mea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95280" y="2644920"/>
          <a:ext cx="6375600" cy="93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644920"/>
                    <a:ext cx="637560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3733920" y="3765600"/>
          <a:ext cx="133956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765600"/>
                    <a:ext cx="133956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879560" y="5178600"/>
          <a:ext cx="5118120" cy="53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79560" y="5178600"/>
                    <a:ext cx="51181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5853240" y="5156280"/>
            <a:ext cx="1143000" cy="53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ffUser</cp:lastModifiedBy>
  <dcterms:modified xsi:type="dcterms:W3CDTF">2005-03-30T15:59:07Z</dcterms:modified>
  <cp:revision>49</cp:revision>
  <dc:subject/>
  <dc:title>PowerPoint Presentation</dc:title>
</cp:coreProperties>
</file>