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256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17.wmf" ContentType="image/x-wmf"/>
  <Override PartName="/ppt/media/image37.wmf" ContentType="image/x-wmf"/>
  <Override PartName="/ppt/media/image48.wmf" ContentType="image/x-wmf"/>
  <Override PartName="/ppt/media/image36.wmf" ContentType="image/x-wmf"/>
  <Override PartName="/ppt/media/image86.wmf" ContentType="image/x-wmf"/>
  <Override PartName="/ppt/media/image18.wmf" ContentType="image/x-wmf"/>
  <Override PartName="/ppt/media/image47.wmf" ContentType="image/x-wmf"/>
  <Override PartName="/ppt/media/image35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16.wmf" ContentType="image/x-wmf"/>
  <Override PartName="/ppt/media/image13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6.wmf" ContentType="image/x-wmf"/>
  <Override PartName="/ppt/media/image158.wmf" ContentType="image/x-wmf"/>
  <Override PartName="/ppt/media/image15.wmf" ContentType="image/x-wmf"/>
  <Override PartName="/ppt/media/image177.wmf" ContentType="image/x-wmf"/>
  <Override PartName="/ppt/media/image85.wmf" ContentType="image/x-wmf"/>
  <Override PartName="/ppt/media/image109.wmf" ContentType="image/x-wmf"/>
  <Override PartName="/ppt/media/image12.wmf" ContentType="image/x-wmf"/>
  <Override PartName="/ppt/media/image80.wmf" ContentType="image/x-wmf"/>
  <Override PartName="/ppt/media/image104.wmf" ContentType="image/x-wmf"/>
  <Override PartName="/ppt/media/image172.wmf" ContentType="image/x-wmf"/>
  <Override PartName="/ppt/media/image1.png" ContentType="image/png"/>
  <Override PartName="/ppt/media/image213.wmf" ContentType="image/x-wmf"/>
  <Override PartName="/ppt/media/image5.wmf" ContentType="image/x-wmf"/>
  <Override PartName="/ppt/media/image157.wmf" ContentType="image/x-wmf"/>
  <Override PartName="/ppt/media/image14.wmf" ContentType="image/x-wmf"/>
  <Override PartName="/ppt/media/image176.wmf" ContentType="image/x-wmf"/>
  <Override PartName="/ppt/media/image84.wmf" ContentType="image/x-wmf"/>
  <Override PartName="/ppt/media/image108.wmf" ContentType="image/x-wmf"/>
  <Override PartName="/ppt/media/image175.wmf" ContentType="image/x-wmf"/>
  <Override PartName="/ppt/media/image83.wmf" ContentType="image/x-wmf"/>
  <Override PartName="/ppt/media/image10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59.wmf" ContentType="image/x-wmf"/>
  <Override PartName="/ppt/media/image182.wmf" ContentType="image/x-wmf"/>
  <Override PartName="/ppt/media/image25.wmf" ContentType="image/x-wmf"/>
  <Override PartName="/ppt/media/image114.wmf" ContentType="image/x-wmf"/>
  <Override PartName="/ppt/media/image90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81.wmf" ContentType="image/x-wmf"/>
  <Override PartName="/ppt/media/image105.wmf" ContentType="image/x-wmf"/>
  <Override PartName="/ppt/media/image173.wmf" ContentType="image/x-wmf"/>
  <Override PartName="/ppt/media/image170.wmf" ContentType="image/x-wmf"/>
  <Override PartName="/ppt/media/image102.wmf" ContentType="image/x-wmf"/>
  <Override PartName="/ppt/media/image82.wmf" ContentType="image/x-wmf"/>
  <Override PartName="/ppt/media/image106.wmf" ContentType="image/x-wmf"/>
  <Override PartName="/ppt/media/image174.wmf" ContentType="image/x-wmf"/>
  <Override PartName="/ppt/media/image171.wmf" ContentType="image/x-wmf"/>
  <Override PartName="/ppt/media/image103.wmf" ContentType="image/x-wmf"/>
  <Override PartName="/ppt/media/image93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96.wmf" ContentType="image/x-wmf"/>
  <Override PartName="/ppt/media/image28.wmf" ContentType="image/x-wmf"/>
  <Override PartName="/ppt/media/image10.wmf" ContentType="image/x-wmf"/>
  <Override PartName="/ppt/media/image11.wmf" ContentType="image/x-wmf"/>
  <Override PartName="/ppt/media/image87.wmf" ContentType="image/x-wmf"/>
  <Override PartName="/ppt/media/image19.wmf" ContentType="image/x-wmf"/>
  <Override PartName="/ppt/media/image88.wmf" ContentType="image/x-wmf"/>
  <Override PartName="/ppt/media/image113.wmf" ContentType="image/x-wmf"/>
  <Override PartName="/ppt/media/image181.wmf" ContentType="image/x-wmf"/>
  <Override PartName="/ppt/media/image192.wmf" ContentType="image/x-wmf"/>
  <Override PartName="/ppt/media/image124.wmf" ContentType="image/x-wmf"/>
  <Override PartName="/ppt/media/image29.wmf" ContentType="image/x-wmf"/>
  <Override PartName="/ppt/media/image97.wmf" ContentType="image/x-wmf"/>
  <Override PartName="/ppt/media/image194.wmf" ContentType="image/x-wmf"/>
  <Override PartName="/ppt/media/image126.wmf" ContentType="image/x-wmf"/>
  <Override PartName="/ppt/media/image71.wmf" ContentType="image/x-wmf"/>
  <Override PartName="/ppt/media/image180.wmf" ContentType="image/x-wmf"/>
  <Override PartName="/ppt/media/image112.wmf" ContentType="image/x-wmf"/>
  <Override PartName="/ppt/media/image91.wmf" ContentType="image/x-wmf"/>
  <Override PartName="/ppt/media/image115.wmf" ContentType="image/x-wmf"/>
  <Override PartName="/ppt/media/image183.wmf" ContentType="image/x-wmf"/>
  <Override PartName="/ppt/media/image123.wmf" ContentType="image/x-wmf"/>
  <Override PartName="/ppt/media/image191.wmf" ContentType="image/x-wmf"/>
  <Override PartName="/ppt/media/image184.wmf" ContentType="image/x-wmf"/>
  <Override PartName="/ppt/media/image98.wmf" ContentType="image/x-wmf"/>
  <Override PartName="/ppt/media/image7.wmf" ContentType="image/x-wmf"/>
  <Override PartName="/ppt/media/image159.wmf" ContentType="image/x-wmf"/>
  <Override PartName="/ppt/media/image61.wmf" ContentType="image/x-wmf"/>
  <Override PartName="/ppt/media/image193.wmf" ContentType="image/x-wmf"/>
  <Override PartName="/ppt/media/image125.wmf" ContentType="image/x-wmf"/>
  <Override PartName="/ppt/media/image70.wmf" ContentType="image/x-wmf"/>
  <Override PartName="/ppt/media/image122.wmf" ContentType="image/x-wmf"/>
  <Override PartName="/ppt/media/image190.wmf" ContentType="image/x-wmf"/>
  <Override PartName="/ppt/media/image94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60.wmf" ContentType="image/x-wmf"/>
  <Override PartName="/ppt/media/image8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140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150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2.jpeg" ContentType="image/jpeg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02.wmf" ContentType="image/x-wmf"/>
  <Override PartName="/ppt/media/image203.wmf" ContentType="image/x-wmf"/>
  <Override PartName="/ppt/media/image204.wmf" ContentType="image/x-wmf"/>
  <Override PartName="/ppt/media/image205.wmf" ContentType="image/x-wmf"/>
  <Override PartName="/ppt/media/image206.wmf" ContentType="image/x-wmf"/>
  <Override PartName="/ppt/media/image207.wmf" ContentType="image/x-wmf"/>
  <Override PartName="/ppt/media/image208.wmf" ContentType="image/x-wmf"/>
  <Override PartName="/ppt/media/image209.wmf" ContentType="image/x-wmf"/>
  <Override PartName="/ppt/media/image210.wmf" ContentType="image/x-wmf"/>
  <Override PartName="/ppt/media/image211.wmf" ContentType="image/x-wmf"/>
  <Override PartName="/ppt/media/image212.wmf" ContentType="image/x-wmf"/>
  <Override PartName="/ppt/media/image214.wmf" ContentType="image/x-wmf"/>
  <Override PartName="/ppt/media/image215.wmf" ContentType="image/x-wmf"/>
  <Override PartName="/ppt/media/image216.wmf" ContentType="image/x-wmf"/>
  <Override PartName="/ppt/media/image217.wmf" ContentType="image/x-wmf"/>
  <Override PartName="/ppt/media/image218.wmf" ContentType="image/x-wmf"/>
  <Override PartName="/ppt/media/image219.wmf" ContentType="image/x-wmf"/>
  <Override PartName="/ppt/media/image220.wmf" ContentType="image/x-wmf"/>
  <Override PartName="/ppt/media/image221.wmf" ContentType="image/x-wmf"/>
  <Override PartName="/ppt/media/image222.wmf" ContentType="image/x-wmf"/>
  <Override PartName="/ppt/media/image223.wmf" ContentType="image/x-wmf"/>
  <Override PartName="/ppt/media/image224.wmf" ContentType="image/x-wmf"/>
  <Override PartName="/ppt/media/image225.wmf" ContentType="image/x-wmf"/>
  <Override PartName="/ppt/media/image226.wmf" ContentType="image/x-wmf"/>
  <Override PartName="/ppt/media/image227.wmf" ContentType="image/x-wmf"/>
  <Override PartName="/ppt/media/image100.wmf" ContentType="image/x-wmf"/>
  <Override PartName="/ppt/media/image228.wmf" ContentType="image/x-wmf"/>
  <Override PartName="/ppt/media/image101.wmf" ContentType="image/x-wmf"/>
  <Override PartName="/ppt/media/image229.wmf" ContentType="image/x-wmf"/>
  <Override PartName="/ppt/media/image230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236.wmf" ContentType="image/x-wmf"/>
  <Override PartName="/ppt/media/image237.wmf" ContentType="image/x-wmf"/>
  <Override PartName="/ppt/media/image110.wmf" ContentType="image/x-wmf"/>
  <Override PartName="/ppt/media/image238.wmf" ContentType="image/x-wmf"/>
  <Override PartName="/ppt/media/image111.wmf" ContentType="image/x-wmf"/>
  <Override PartName="/ppt/media/image239.wmf" ContentType="image/x-wmf"/>
  <Override PartName="/ppt/media/image240.wmf" ContentType="image/x-wmf"/>
  <Override PartName="/ppt/media/image241.wmf" ContentType="image/x-wmf"/>
  <Override PartName="/ppt/media/image242.wmf" ContentType="image/x-wmf"/>
  <Override PartName="/ppt/media/image243.wmf" ContentType="image/x-wmf"/>
  <Override PartName="/ppt/media/image244.wmf" ContentType="image/x-wmf"/>
  <Override PartName="/ppt/media/image245.wmf" ContentType="image/x-wmf"/>
  <Override PartName="/ppt/media/image246.wmf" ContentType="image/x-wmf"/>
  <Override PartName="/ppt/media/image247.wmf" ContentType="image/x-wmf"/>
  <Override PartName="/ppt/media/image120.wmf" ContentType="image/x-wmf"/>
  <Override PartName="/ppt/media/image248.wmf" ContentType="image/x-wmf"/>
  <Override PartName="/ppt/media/image121.wmf" ContentType="image/x-wmf"/>
  <Override PartName="/ppt/media/image249.wmf" ContentType="image/x-wmf"/>
  <Override PartName="/ppt/media/image250.wmf" ContentType="image/x-wmf"/>
  <Override PartName="/ppt/media/image251.wmf" ContentType="image/x-wmf"/>
  <Override PartName="/ppt/media/image252.wmf" ContentType="image/x-wmf"/>
  <Override PartName="/ppt/media/image253.wmf" ContentType="image/x-wmf"/>
  <Override PartName="/ppt/media/image254.wmf" ContentType="image/x-wmf"/>
  <Override PartName="/ppt/media/image255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32B-07DD-4D5A-B41C-560DA854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39C-1B63-4EFF-B556-75DBF912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BA6-C9E0-498F-AA58-96D6421A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3CB-3105-4485-B1E8-3504FF3B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1B5-8680-4D9B-9A28-48E85535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828-F644-4DA8-9B69-3A75FB3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C40-CA7B-4234-A5D6-21996444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B6A-A3F9-4779-ABC8-1E125D2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EF3-487D-4F9B-B18F-482EB2B2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E2F-C823-4ACE-AB00-D309794D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B19-C9AC-4437-BE12-3110D968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FCF-ECFB-4DB6-929E-E26E293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BFD2-6E2F-45DD-9841-ACD9472E0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2.wmf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8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image" Target="../media/image117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1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6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2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0.wmf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7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2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9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7.wmf"/><Relationship Id="rId1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6.wmf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8.wmf"/><Relationship Id="rId5" Type="http://schemas.openxmlformats.org/officeDocument/2006/relationships/image" Target="../media/image1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6.wmf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0.wmf"/><Relationship Id="rId2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8.wmf"/><Relationship Id="rId1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6.wmf"/><Relationship Id="rId2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31.wmf"/><Relationship Id="rId3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9.wmf"/><Relationship Id="rId1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48.wmf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1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9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608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klahoma School of Science and Mathema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ddle School Mathematics: An Awesome Cont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2487600" cy="157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1800" y="3809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486400"/>
            <a:ext cx="6019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st problems and solutions by profess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unhua Feng, Chengde Feng, Daryl Schwerdtfeger, Taras Odushkin, Jack Gleason, and Tony Corn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82600" y="304920"/>
          <a:ext cx="8480520" cy="26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304920"/>
                    <a:ext cx="848052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552680" y="3949560"/>
          <a:ext cx="97956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2680" y="3949560"/>
                    <a:ext cx="97956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781680" y="3962520"/>
            <a:ext cx="8384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5400" y="3949560"/>
          <a:ext cx="488880" cy="60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5400" y="3949560"/>
                    <a:ext cx="4888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814480" y="3963960"/>
          <a:ext cx="489240" cy="60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4480" y="3963960"/>
                    <a:ext cx="4892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230640" y="3963960"/>
          <a:ext cx="488880" cy="60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30640" y="3963960"/>
                    <a:ext cx="48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632040" y="3963960"/>
          <a:ext cx="677880" cy="60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2040" y="3963960"/>
                    <a:ext cx="677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203720" y="3963960"/>
          <a:ext cx="71604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03720" y="3963960"/>
                    <a:ext cx="7160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799160" y="3963960"/>
          <a:ext cx="715680" cy="60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99160" y="3963960"/>
                    <a:ext cx="715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23040" y="3963960"/>
          <a:ext cx="715680" cy="60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23040" y="3963960"/>
                    <a:ext cx="715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018120" y="3963960"/>
          <a:ext cx="716040" cy="601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8120" y="3963960"/>
                    <a:ext cx="7160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676920" y="3970440"/>
          <a:ext cx="943200" cy="601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76920" y="3970440"/>
                    <a:ext cx="9432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600"/>
          <a:ext cx="7759800" cy="26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775980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514520" y="3048120"/>
          <a:ext cx="58770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3048120"/>
                    <a:ext cx="58770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648320" y="5715000"/>
            <a:ext cx="5331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17600" y="3886200"/>
          <a:ext cx="6440400" cy="67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7600" y="3886200"/>
                    <a:ext cx="64404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048120" y="4800600"/>
          <a:ext cx="305100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800600"/>
                    <a:ext cx="30510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046400" y="5751360"/>
          <a:ext cx="1054080" cy="5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46400" y="5751360"/>
                    <a:ext cx="1054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5120" y="152280"/>
          <a:ext cx="815184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52280"/>
                    <a:ext cx="81518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996240" y="5977080"/>
            <a:ext cx="5331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7480" y="6019920"/>
          <a:ext cx="2070000" cy="52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7480" y="6019920"/>
                    <a:ext cx="20700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828800" y="1752480"/>
          <a:ext cx="120636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1752480"/>
                    <a:ext cx="120636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011560" y="1828800"/>
          <a:ext cx="192276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11560" y="1828800"/>
                    <a:ext cx="1922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752480" y="3200400"/>
          <a:ext cx="150840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3200400"/>
                    <a:ext cx="1508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752480" y="4038480"/>
          <a:ext cx="1395360" cy="1162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4038480"/>
                    <a:ext cx="13953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181480" y="3714840"/>
          <a:ext cx="1621080" cy="116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3714840"/>
                    <a:ext cx="1621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334120" y="4962600"/>
          <a:ext cx="1280880" cy="60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4120" y="4962600"/>
                    <a:ext cx="12808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675320" y="2440080"/>
          <a:ext cx="2714400" cy="1274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75320" y="2440080"/>
                    <a:ext cx="27144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133720" y="6019920"/>
          <a:ext cx="2297160" cy="525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6019920"/>
                    <a:ext cx="22971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304920"/>
          <a:ext cx="794052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79405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872320" y="4686480"/>
            <a:ext cx="60948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538960" y="4714920"/>
          <a:ext cx="941040" cy="52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8960" y="4714920"/>
                    <a:ext cx="9410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28600" y="3070080"/>
          <a:ext cx="6629400" cy="12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070080"/>
                    <a:ext cx="6629400" cy="1209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571840" y="4748040"/>
          <a:ext cx="377640" cy="5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4748040"/>
                    <a:ext cx="3776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362320" y="4548240"/>
          <a:ext cx="315432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548240"/>
                    <a:ext cx="31543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923000" y="4729320"/>
          <a:ext cx="339480" cy="525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23000" y="4729320"/>
                    <a:ext cx="3394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738600" y="4748040"/>
          <a:ext cx="339840" cy="52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38600" y="4748040"/>
                    <a:ext cx="3398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228600"/>
          <a:ext cx="788040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788040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410080" y="5029200"/>
            <a:ext cx="167652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3600" y="3505320"/>
          <a:ext cx="889812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3505320"/>
                    <a:ext cx="8898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752480" y="5105520"/>
          <a:ext cx="54007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5105520"/>
                    <a:ext cx="54007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228600"/>
          <a:ext cx="8145360" cy="15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81453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400800" y="5562720"/>
            <a:ext cx="91440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3657600" cy="20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2666880" y="4038480"/>
          <a:ext cx="3934080" cy="94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4038480"/>
                    <a:ext cx="3934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574640" y="5462640"/>
          <a:ext cx="5662800" cy="69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74640" y="5462640"/>
                    <a:ext cx="56628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11280" y="262080"/>
          <a:ext cx="685620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2080"/>
                    <a:ext cx="68562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876920" y="4724280"/>
            <a:ext cx="129528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47920" y="2971800"/>
          <a:ext cx="604836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971800"/>
                    <a:ext cx="604836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971800" y="4419720"/>
          <a:ext cx="3197160" cy="13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419720"/>
                    <a:ext cx="31971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28760" y="304920"/>
          <a:ext cx="8292960" cy="20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304920"/>
                    <a:ext cx="829296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724280" y="5562720"/>
            <a:ext cx="68580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590920" y="2666880"/>
          <a:ext cx="40608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666880"/>
                    <a:ext cx="40608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827440" y="3809880"/>
          <a:ext cx="380196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27440" y="3809880"/>
                    <a:ext cx="38019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608280" y="4730760"/>
          <a:ext cx="203040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08280" y="4730760"/>
                    <a:ext cx="2030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981600" y="5638680"/>
          <a:ext cx="1380960" cy="60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81600" y="5638680"/>
                    <a:ext cx="13809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04920" y="304920"/>
          <a:ext cx="7594560" cy="15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759456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234120" y="4848120"/>
            <a:ext cx="91440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09480" y="4178160"/>
          <a:ext cx="384516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178160"/>
                    <a:ext cx="3845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85800" y="5168880"/>
          <a:ext cx="177156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168880"/>
                    <a:ext cx="17715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6880" y="3263760"/>
          <a:ext cx="3975120" cy="86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880" y="3263760"/>
                    <a:ext cx="3975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105520" y="1905120"/>
          <a:ext cx="3327120" cy="13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1905120"/>
                    <a:ext cx="3327120" cy="133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002200" y="3352680"/>
          <a:ext cx="3760920" cy="133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2200" y="3352680"/>
                    <a:ext cx="376092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685800" y="2251080"/>
          <a:ext cx="3673440" cy="86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2251080"/>
                    <a:ext cx="3673440" cy="860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097600" y="4876920"/>
          <a:ext cx="1989000" cy="77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97600" y="4876920"/>
                    <a:ext cx="1989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22200" y="228600"/>
          <a:ext cx="8059680" cy="14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8600"/>
                    <a:ext cx="805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781680" y="5562720"/>
            <a:ext cx="19051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981080"/>
          <a:ext cx="8347320" cy="15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981080"/>
                    <a:ext cx="8347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1523880" y="1523880"/>
            <a:ext cx="6172200" cy="914400"/>
            <a:chOff x="1523880" y="1523880"/>
            <a:chExt cx="6172200" cy="914400"/>
          </a:xfrm>
        </p:grpSpPr>
        <p:sp>
          <p:nvSpPr>
            <p:cNvPr id="282" name=""/>
            <p:cNvSpPr/>
            <p:nvPr/>
          </p:nvSpPr>
          <p:spPr>
            <a:xfrm>
              <a:off x="1523880" y="1981080"/>
              <a:ext cx="457200" cy="4572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981080" y="1904760"/>
              <a:ext cx="68580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3200" y="1523880"/>
              <a:ext cx="49528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exponent is the number of zero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5" name=""/>
          <p:cNvGraphicFramePr/>
          <p:nvPr/>
        </p:nvGraphicFramePr>
        <p:xfrm>
          <a:off x="380880" y="3657600"/>
          <a:ext cx="8347320" cy="15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657600"/>
                    <a:ext cx="8347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304920" y="5638680"/>
            <a:ext cx="61722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7 does not increase the number of dig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83480" y="5595840"/>
          <a:ext cx="1903320" cy="68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3480" y="5595840"/>
                    <a:ext cx="1903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7600" cy="3971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441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presented by Dr. Frank W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0880" y="228600"/>
          <a:ext cx="739152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73915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733920" y="6019920"/>
            <a:ext cx="16002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00120" y="2516040"/>
          <a:ext cx="627228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2516040"/>
                    <a:ext cx="6272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819600" y="6062760"/>
          <a:ext cx="142704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19600" y="6062760"/>
                    <a:ext cx="14270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752480" y="3352680"/>
          <a:ext cx="579780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3352680"/>
                    <a:ext cx="57978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982880" y="4273560"/>
          <a:ext cx="5408640" cy="60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2880" y="4273560"/>
                    <a:ext cx="54086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057400" y="5187960"/>
          <a:ext cx="5191200" cy="60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187960"/>
                    <a:ext cx="51912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2709720" y="2533680"/>
            <a:ext cx="1266840" cy="619200"/>
            <a:chOff x="2709720" y="2533680"/>
            <a:chExt cx="1266840" cy="619200"/>
          </a:xfrm>
        </p:grpSpPr>
        <p:sp>
          <p:nvSpPr>
            <p:cNvPr id="305" name=""/>
            <p:cNvSpPr/>
            <p:nvPr/>
          </p:nvSpPr>
          <p:spPr>
            <a:xfrm>
              <a:off x="3519360" y="2543040"/>
              <a:ext cx="457200" cy="6098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09720" y="2533680"/>
              <a:ext cx="457200" cy="6094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743120" y="3367080"/>
            <a:ext cx="1657440" cy="614520"/>
            <a:chOff x="1743120" y="3367080"/>
            <a:chExt cx="1657440" cy="614520"/>
          </a:xfrm>
        </p:grpSpPr>
        <p:sp>
          <p:nvSpPr>
            <p:cNvPr id="308" name=""/>
            <p:cNvSpPr/>
            <p:nvPr/>
          </p:nvSpPr>
          <p:spPr>
            <a:xfrm>
              <a:off x="2943360" y="3371760"/>
              <a:ext cx="457200" cy="6098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3120" y="3367080"/>
              <a:ext cx="457200" cy="6094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957320" y="4281480"/>
            <a:ext cx="862200" cy="628560"/>
            <a:chOff x="1957320" y="4281480"/>
            <a:chExt cx="862200" cy="628560"/>
          </a:xfrm>
        </p:grpSpPr>
        <p:sp>
          <p:nvSpPr>
            <p:cNvPr id="311" name=""/>
            <p:cNvSpPr/>
            <p:nvPr/>
          </p:nvSpPr>
          <p:spPr>
            <a:xfrm>
              <a:off x="1957320" y="4281480"/>
              <a:ext cx="457200" cy="6094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62320" y="4300560"/>
              <a:ext cx="457200" cy="6094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124080" y="3048120"/>
            <a:ext cx="609840" cy="380880"/>
            <a:chOff x="3124080" y="3048120"/>
            <a:chExt cx="609840" cy="380880"/>
          </a:xfrm>
        </p:grpSpPr>
        <p:sp>
          <p:nvSpPr>
            <p:cNvPr id="314" name=""/>
            <p:cNvSpPr/>
            <p:nvPr/>
          </p:nvSpPr>
          <p:spPr>
            <a:xfrm>
              <a:off x="3124080" y="3048120"/>
              <a:ext cx="38124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81280" y="3200400"/>
              <a:ext cx="15264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209680" y="3886200"/>
            <a:ext cx="914040" cy="457200"/>
            <a:chOff x="2209680" y="3886200"/>
            <a:chExt cx="914040" cy="457200"/>
          </a:xfrm>
        </p:grpSpPr>
        <p:sp>
          <p:nvSpPr>
            <p:cNvPr id="317" name=""/>
            <p:cNvSpPr/>
            <p:nvPr/>
          </p:nvSpPr>
          <p:spPr>
            <a:xfrm>
              <a:off x="2209680" y="3886200"/>
              <a:ext cx="68580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047760" y="3962520"/>
              <a:ext cx="7596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209680" y="4876920"/>
            <a:ext cx="381240" cy="380880"/>
            <a:chOff x="2209680" y="4876920"/>
            <a:chExt cx="381240" cy="380880"/>
          </a:xfrm>
        </p:grpSpPr>
        <p:sp>
          <p:nvSpPr>
            <p:cNvPr id="320" name=""/>
            <p:cNvSpPr/>
            <p:nvPr/>
          </p:nvSpPr>
          <p:spPr>
            <a:xfrm>
              <a:off x="2209680" y="4876920"/>
              <a:ext cx="7632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438280" y="4952880"/>
              <a:ext cx="1526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04920" y="403200"/>
          <a:ext cx="614016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03200"/>
                    <a:ext cx="614016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962520" y="5638680"/>
            <a:ext cx="1371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52480" y="1752480"/>
          <a:ext cx="5624640" cy="6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1752480"/>
                    <a:ext cx="562464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038480" y="5638680"/>
          <a:ext cx="121140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5638680"/>
                    <a:ext cx="1211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300400" y="2717640"/>
          <a:ext cx="53211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0400" y="2717640"/>
                    <a:ext cx="5321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301840" y="4505400"/>
          <a:ext cx="1860480" cy="69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01840" y="4505400"/>
                    <a:ext cx="1860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300400" y="3738600"/>
          <a:ext cx="337320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00400" y="3738600"/>
                    <a:ext cx="33732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54160" y="304920"/>
          <a:ext cx="858492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04920"/>
                    <a:ext cx="85849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7086600" y="3716280"/>
            <a:ext cx="167652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89080" y="3728880"/>
          <a:ext cx="26827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3728880"/>
                    <a:ext cx="2682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981160" y="3821040"/>
          <a:ext cx="1514520" cy="14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1160" y="3821040"/>
                    <a:ext cx="151452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4575240" y="3701880"/>
          <a:ext cx="2206440" cy="155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5240" y="3701880"/>
                    <a:ext cx="220644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6794640" y="3708360"/>
          <a:ext cx="1815840" cy="14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94640" y="3708360"/>
                    <a:ext cx="181584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228600"/>
          <a:ext cx="812016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1201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2971800" y="3886200"/>
            <a:ext cx="609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44600" y="1447920"/>
          <a:ext cx="803412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1447920"/>
                    <a:ext cx="8034120" cy="842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380880" y="3505320"/>
          <a:ext cx="307188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505320"/>
                    <a:ext cx="30718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4038480" y="2590920"/>
            <a:ext cx="4511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8600" y="190440"/>
          <a:ext cx="88725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440"/>
                    <a:ext cx="88725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5791320" y="5334120"/>
            <a:ext cx="11430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438280" y="3352680"/>
          <a:ext cx="4716720" cy="8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352680"/>
                    <a:ext cx="47167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791320" y="5410080"/>
          <a:ext cx="116820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5410080"/>
                    <a:ext cx="1168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176560" y="4167360"/>
          <a:ext cx="4975200" cy="86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6560" y="4167360"/>
                    <a:ext cx="4975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7" name=""/>
          <p:cNvGrpSpPr/>
          <p:nvPr/>
        </p:nvGrpSpPr>
        <p:grpSpPr>
          <a:xfrm>
            <a:off x="1371600" y="4114800"/>
            <a:ext cx="6172200" cy="990720"/>
            <a:chOff x="1371600" y="4114800"/>
            <a:chExt cx="6172200" cy="990720"/>
          </a:xfrm>
        </p:grpSpPr>
        <p:sp>
          <p:nvSpPr>
            <p:cNvPr id="368" name=""/>
            <p:cNvSpPr/>
            <p:nvPr/>
          </p:nvSpPr>
          <p:spPr>
            <a:xfrm>
              <a:off x="1600200" y="510552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71600" y="41148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457200"/>
          <a:ext cx="662940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66294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835440" y="5257800"/>
            <a:ext cx="1371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200400" y="2109960"/>
          <a:ext cx="269244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109960"/>
                    <a:ext cx="26924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475080" y="3156120"/>
          <a:ext cx="226548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75080" y="3156120"/>
                    <a:ext cx="22654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3683160" y="4160880"/>
          <a:ext cx="198108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83160" y="4160880"/>
                    <a:ext cx="1981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3835440" y="5224320"/>
          <a:ext cx="1295280" cy="64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5440" y="5224320"/>
                    <a:ext cx="1295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93760" y="380880"/>
          <a:ext cx="4145040" cy="16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380880"/>
                    <a:ext cx="414504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5791320" y="4343400"/>
            <a:ext cx="914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2280" y="2209680"/>
          <a:ext cx="594360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209680"/>
                    <a:ext cx="59436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175440" y="2268360"/>
          <a:ext cx="2816280" cy="13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5440" y="2268360"/>
                    <a:ext cx="28162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392200" y="4270320"/>
          <a:ext cx="1843200" cy="113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2200" y="4270320"/>
                    <a:ext cx="184320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4292640" y="4270320"/>
          <a:ext cx="1147680" cy="11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2640" y="4270320"/>
                    <a:ext cx="114768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5516640" y="4332240"/>
          <a:ext cx="1112760" cy="106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16640" y="4332240"/>
                    <a:ext cx="11127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80880" y="152280"/>
          <a:ext cx="794088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794088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5257800" y="5562720"/>
            <a:ext cx="12193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572000" y="2438280"/>
          <a:ext cx="2852640" cy="9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438280"/>
                    <a:ext cx="28526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1390680" y="3443040"/>
            <a:ext cx="1752480" cy="2028600"/>
            <a:chOff x="1390680" y="3443040"/>
            <a:chExt cx="1752480" cy="2028600"/>
          </a:xfrm>
        </p:grpSpPr>
        <p:sp>
          <p:nvSpPr>
            <p:cNvPr id="403" name=""/>
            <p:cNvSpPr/>
            <p:nvPr/>
          </p:nvSpPr>
          <p:spPr>
            <a:xfrm>
              <a:off x="1467000" y="3824280"/>
              <a:ext cx="16002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90680" y="3443040"/>
              <a:ext cx="1752480" cy="20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8594000">
              <a:off x="2142720" y="41619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94920" y="3366720"/>
            <a:ext cx="1957680" cy="2119320"/>
            <a:chOff x="1294920" y="3366720"/>
            <a:chExt cx="1957680" cy="2119320"/>
          </a:xfrm>
        </p:grpSpPr>
        <p:sp>
          <p:nvSpPr>
            <p:cNvPr id="407" name=""/>
            <p:cNvSpPr/>
            <p:nvPr/>
          </p:nvSpPr>
          <p:spPr>
            <a:xfrm flipV="1">
              <a:off x="1376280" y="3809520"/>
              <a:ext cx="7632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356120" y="5054400"/>
              <a:ext cx="175032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095640" y="3366720"/>
              <a:ext cx="7632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441800" y="3392280"/>
              <a:ext cx="175032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52800" y="35193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52800" y="51674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294920" y="45864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024000" y="41292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5" name=""/>
          <p:cNvGraphicFramePr/>
          <p:nvPr/>
        </p:nvGraphicFramePr>
        <p:xfrm>
          <a:off x="2395440" y="3795840"/>
          <a:ext cx="228600" cy="35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5440" y="3795840"/>
                    <a:ext cx="2286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814400" y="3852720"/>
          <a:ext cx="254160" cy="35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14400" y="3852720"/>
                    <a:ext cx="254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952880" y="3514680"/>
          <a:ext cx="1947960" cy="82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3514680"/>
                    <a:ext cx="1947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4957920" y="4505400"/>
          <a:ext cx="191268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7920" y="4505400"/>
                    <a:ext cx="19126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967280" y="5562720"/>
          <a:ext cx="1495440" cy="62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67280" y="5562720"/>
                    <a:ext cx="14954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600200" y="2971800"/>
          <a:ext cx="1262160" cy="555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2971800"/>
                    <a:ext cx="126216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80880" y="228600"/>
          <a:ext cx="750276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75027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4876920" y="5481720"/>
            <a:ext cx="9144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600200" y="2714760"/>
          <a:ext cx="4940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714760"/>
                    <a:ext cx="4940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048120" y="5481720"/>
          <a:ext cx="260964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481720"/>
                    <a:ext cx="2609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857680" y="2209680"/>
          <a:ext cx="369072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57680" y="2209680"/>
                    <a:ext cx="36907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7" name=""/>
          <p:cNvGrpSpPr/>
          <p:nvPr/>
        </p:nvGrpSpPr>
        <p:grpSpPr>
          <a:xfrm>
            <a:off x="2590920" y="3191040"/>
            <a:ext cx="4038480" cy="514080"/>
            <a:chOff x="2590920" y="3191040"/>
            <a:chExt cx="4038480" cy="514080"/>
          </a:xfrm>
        </p:grpSpPr>
        <p:graphicFrame>
          <p:nvGraphicFramePr>
            <p:cNvPr id="438" name=""/>
            <p:cNvGraphicFramePr/>
            <p:nvPr/>
          </p:nvGraphicFramePr>
          <p:xfrm>
            <a:off x="6234120" y="3191040"/>
            <a:ext cx="312840" cy="484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34120" y="3191040"/>
                      <a:ext cx="3128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"/>
            <p:cNvSpPr/>
            <p:nvPr/>
          </p:nvSpPr>
          <p:spPr>
            <a:xfrm flipH="1">
              <a:off x="2590920" y="3705120"/>
              <a:ext cx="403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90920" y="34765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2" name=""/>
          <p:cNvGraphicFramePr/>
          <p:nvPr/>
        </p:nvGraphicFramePr>
        <p:xfrm>
          <a:off x="2843280" y="3754440"/>
          <a:ext cx="365292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3754440"/>
                    <a:ext cx="36529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76400" y="3719520"/>
          <a:ext cx="3451320" cy="103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76400" y="3719520"/>
                    <a:ext cx="34513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04920" y="241200"/>
          <a:ext cx="81738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200"/>
                    <a:ext cx="81738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238880" y="3733920"/>
            <a:ext cx="9144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295280" y="2514600"/>
          <a:ext cx="128772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14600"/>
                    <a:ext cx="12877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3381480" y="2438280"/>
          <a:ext cx="43146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1480" y="2438280"/>
                    <a:ext cx="43146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1143000" y="3809880"/>
          <a:ext cx="1461960" cy="5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809880"/>
                    <a:ext cx="14619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3274920" y="3747960"/>
          <a:ext cx="4802400" cy="69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4920" y="3747960"/>
                    <a:ext cx="48024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3200" y="90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1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533520"/>
          <a:ext cx="59547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59547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765600" y="2192400"/>
          <a:ext cx="12636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5600" y="2192400"/>
                    <a:ext cx="126360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809880" y="3657600"/>
          <a:ext cx="117324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657600"/>
                    <a:ext cx="11732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962520" y="4836960"/>
          <a:ext cx="841320" cy="4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4836960"/>
                    <a:ext cx="8413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433760" y="4800600"/>
            <a:ext cx="4572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85840" y="228600"/>
          <a:ext cx="855324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28600"/>
                    <a:ext cx="85532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7924680" y="2057400"/>
            <a:ext cx="9144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25440" y="2017800"/>
          <a:ext cx="729468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" y="2017800"/>
                    <a:ext cx="7294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152280" y="3498840"/>
          <a:ext cx="33750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498840"/>
                    <a:ext cx="3375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52280" y="4267080"/>
          <a:ext cx="6054840" cy="69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267080"/>
                    <a:ext cx="60548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52280" y="5078520"/>
          <a:ext cx="6229440" cy="13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5078520"/>
                    <a:ext cx="622944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7043760" y="2133720"/>
          <a:ext cx="506520" cy="50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43760" y="2133720"/>
                    <a:ext cx="5065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643880" y="2009880"/>
          <a:ext cx="1119240" cy="111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43880" y="2009880"/>
                    <a:ext cx="11192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0" y="115920"/>
          <a:ext cx="9107640" cy="20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920"/>
                    <a:ext cx="910764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6477120" y="5715000"/>
            <a:ext cx="1752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130400" y="2330280"/>
          <a:ext cx="451332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0400" y="2330280"/>
                    <a:ext cx="451332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657760" y="2481120"/>
          <a:ext cx="1733760" cy="110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7760" y="2481120"/>
                    <a:ext cx="173376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152280" y="4048200"/>
          <a:ext cx="5054760" cy="13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048200"/>
                    <a:ext cx="505476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191200" y="4124160"/>
          <a:ext cx="3647880" cy="125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91200" y="4124160"/>
                    <a:ext cx="3647880" cy="12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990720" y="5759280"/>
          <a:ext cx="2854080" cy="71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5759280"/>
                    <a:ext cx="285408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3968640" y="5835600"/>
          <a:ext cx="220356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8640" y="5835600"/>
                    <a:ext cx="2203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199200" y="5835600"/>
          <a:ext cx="1878120" cy="573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9200" y="5835600"/>
                    <a:ext cx="18781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048120" y="9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8360" y="203040"/>
          <a:ext cx="8640720" cy="20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203040"/>
                    <a:ext cx="864072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6872400" y="3733920"/>
            <a:ext cx="175248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414360" y="2209680"/>
          <a:ext cx="37004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60" y="2209680"/>
                    <a:ext cx="3700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633240" y="2895480"/>
          <a:ext cx="332928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240" y="2895480"/>
                    <a:ext cx="33292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031760" y="4038480"/>
          <a:ext cx="2320920" cy="103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31760" y="4038480"/>
                    <a:ext cx="23209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4537080" y="2808360"/>
          <a:ext cx="4530600" cy="14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7080" y="2808360"/>
                    <a:ext cx="45306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304920" y="5257800"/>
          <a:ext cx="388620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920" y="5257800"/>
                    <a:ext cx="3886200" cy="12193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06" name=""/>
          <p:cNvGrpSpPr/>
          <p:nvPr/>
        </p:nvGrpSpPr>
        <p:grpSpPr>
          <a:xfrm>
            <a:off x="4495680" y="4800240"/>
            <a:ext cx="4267440" cy="1295640"/>
            <a:chOff x="4495680" y="4800240"/>
            <a:chExt cx="4267440" cy="1295640"/>
          </a:xfrm>
        </p:grpSpPr>
        <p:sp>
          <p:nvSpPr>
            <p:cNvPr id="507" name=""/>
            <p:cNvSpPr/>
            <p:nvPr/>
          </p:nvSpPr>
          <p:spPr>
            <a:xfrm>
              <a:off x="4495680" y="4952880"/>
              <a:ext cx="426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0080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33412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2012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1" name=""/>
            <p:cNvGraphicFramePr/>
            <p:nvPr/>
          </p:nvGraphicFramePr>
          <p:xfrm>
            <a:off x="6248520" y="5181480"/>
            <a:ext cx="334800" cy="466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248520" y="5181480"/>
                      <a:ext cx="33480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3" name=""/>
            <p:cNvGraphicFramePr/>
            <p:nvPr/>
          </p:nvGraphicFramePr>
          <p:xfrm>
            <a:off x="4948200" y="5138640"/>
            <a:ext cx="747720" cy="957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948200" y="5138640"/>
                      <a:ext cx="747720" cy="95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5" name=""/>
            <p:cNvGraphicFramePr/>
            <p:nvPr/>
          </p:nvGraphicFramePr>
          <p:xfrm>
            <a:off x="7329600" y="5062680"/>
            <a:ext cx="623880" cy="957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329600" y="5062680"/>
                      <a:ext cx="623880" cy="95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057400" y="90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&amp;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24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1920" y="47520"/>
          <a:ext cx="9053640" cy="26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47520"/>
                    <a:ext cx="9053640" cy="26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3295800" y="2119320"/>
          <a:ext cx="2931840" cy="11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5800" y="2119320"/>
                    <a:ext cx="293184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6019920" y="6095880"/>
            <a:ext cx="4572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457200" y="3116160"/>
            <a:ext cx="2819520" cy="213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4" name=""/>
          <p:cNvGraphicFramePr/>
          <p:nvPr/>
        </p:nvGraphicFramePr>
        <p:xfrm>
          <a:off x="1066680" y="5249880"/>
          <a:ext cx="1414440" cy="54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6680" y="5249880"/>
                    <a:ext cx="1414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1604880" y="4022640"/>
          <a:ext cx="300240" cy="5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4880" y="4022640"/>
                    <a:ext cx="3002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2271600" y="4011480"/>
          <a:ext cx="331920" cy="541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71600" y="4011480"/>
                    <a:ext cx="3319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4164120" y="3335400"/>
          <a:ext cx="3255840" cy="1236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64120" y="3335400"/>
                    <a:ext cx="3255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4172040" y="4630680"/>
          <a:ext cx="2800440" cy="1236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72040" y="4630680"/>
                    <a:ext cx="2800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62320" y="6054840"/>
          <a:ext cx="1433520" cy="650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62320" y="6054840"/>
                    <a:ext cx="14335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5695920" y="6126120"/>
          <a:ext cx="781200" cy="455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95920" y="6126120"/>
                    <a:ext cx="7812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795240" y="1676520"/>
          <a:ext cx="28623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676520"/>
                    <a:ext cx="2862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2057400" y="90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&amp;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24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52280" y="76320"/>
          <a:ext cx="881244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76320"/>
                    <a:ext cx="881244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019920" y="6095880"/>
            <a:ext cx="5331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19160" y="3505320"/>
          <a:ext cx="179064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9160" y="3505320"/>
                    <a:ext cx="17906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4041720" y="3276720"/>
          <a:ext cx="426420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41720" y="3276720"/>
                    <a:ext cx="42642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105520" y="1763640"/>
          <a:ext cx="2438280" cy="151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1763640"/>
                    <a:ext cx="24382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1219320" y="4010040"/>
          <a:ext cx="1336680" cy="6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10040"/>
                    <a:ext cx="13366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958680" y="4648320"/>
          <a:ext cx="1922760" cy="554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8680" y="4648320"/>
                    <a:ext cx="19227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1454040" y="5181480"/>
          <a:ext cx="847800" cy="45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54040" y="5181480"/>
                    <a:ext cx="8478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76240" y="5686560"/>
          <a:ext cx="2541600" cy="65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76240" y="5686560"/>
                    <a:ext cx="25416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614600" y="6307200"/>
          <a:ext cx="847440" cy="455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14600" y="6307200"/>
                    <a:ext cx="8474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5234040" y="1998720"/>
            <a:ext cx="533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43400" y="2536920"/>
            <a:ext cx="533520" cy="533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62520" y="1992240"/>
            <a:ext cx="533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76920" y="2527200"/>
            <a:ext cx="533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15120" y="2530440"/>
            <a:ext cx="533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05400" y="1992240"/>
            <a:ext cx="533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38920" y="1987560"/>
            <a:ext cx="533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46840" y="2519280"/>
            <a:ext cx="533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34040" y="1992240"/>
            <a:ext cx="1066680" cy="1067040"/>
          </a:xfrm>
          <a:prstGeom prst="rect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73680" y="1992240"/>
            <a:ext cx="1066680" cy="1067040"/>
          </a:xfrm>
          <a:prstGeom prst="rect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13320" y="1992240"/>
            <a:ext cx="1067040" cy="1067040"/>
          </a:xfrm>
          <a:prstGeom prst="rect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167440" y="1954080"/>
            <a:ext cx="1141200" cy="1146240"/>
            <a:chOff x="5167440" y="1954080"/>
            <a:chExt cx="1141200" cy="1146240"/>
          </a:xfrm>
        </p:grpSpPr>
        <p:sp>
          <p:nvSpPr>
            <p:cNvPr id="572" name=""/>
            <p:cNvSpPr/>
            <p:nvPr/>
          </p:nvSpPr>
          <p:spPr>
            <a:xfrm flipH="1">
              <a:off x="5170320" y="1957320"/>
              <a:ext cx="574200" cy="58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732280" y="2511360"/>
              <a:ext cx="574200" cy="58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5167440" y="2526120"/>
              <a:ext cx="588960" cy="57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5719680" y="1954080"/>
              <a:ext cx="588960" cy="57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745240" y="1947960"/>
            <a:ext cx="1141200" cy="1146240"/>
            <a:chOff x="5745240" y="1947960"/>
            <a:chExt cx="1141200" cy="1146240"/>
          </a:xfrm>
        </p:grpSpPr>
        <p:sp>
          <p:nvSpPr>
            <p:cNvPr id="577" name=""/>
            <p:cNvSpPr/>
            <p:nvPr/>
          </p:nvSpPr>
          <p:spPr>
            <a:xfrm flipH="1">
              <a:off x="5748120" y="1951200"/>
              <a:ext cx="574200" cy="58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310080" y="2505240"/>
              <a:ext cx="574200" cy="58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5745240" y="2520000"/>
              <a:ext cx="588960" cy="57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6297480" y="1947960"/>
              <a:ext cx="588960" cy="57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278760" y="1941480"/>
            <a:ext cx="1141200" cy="1146240"/>
            <a:chOff x="6278760" y="1941480"/>
            <a:chExt cx="1141200" cy="1146240"/>
          </a:xfrm>
        </p:grpSpPr>
        <p:sp>
          <p:nvSpPr>
            <p:cNvPr id="582" name=""/>
            <p:cNvSpPr/>
            <p:nvPr/>
          </p:nvSpPr>
          <p:spPr>
            <a:xfrm flipH="1">
              <a:off x="6281640" y="1944720"/>
              <a:ext cx="574200" cy="58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843600" y="2498760"/>
              <a:ext cx="574200" cy="58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6278760" y="2513520"/>
              <a:ext cx="588960" cy="57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6831000" y="1941480"/>
              <a:ext cx="588960" cy="57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6" name=""/>
          <p:cNvGraphicFramePr/>
          <p:nvPr/>
        </p:nvGraphicFramePr>
        <p:xfrm>
          <a:off x="4648320" y="4116240"/>
          <a:ext cx="3125520" cy="455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4116240"/>
                    <a:ext cx="3125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5257800" y="4878360"/>
          <a:ext cx="1822320" cy="455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57800" y="4878360"/>
                    <a:ext cx="18223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5410080" y="5562720"/>
          <a:ext cx="1301760" cy="45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10080" y="5562720"/>
                    <a:ext cx="13017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5486400" y="6172200"/>
          <a:ext cx="1074600" cy="455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86400" y="6172200"/>
                    <a:ext cx="10746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057400" y="90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&amp;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24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228600" y="139680"/>
          <a:ext cx="85726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9680"/>
                    <a:ext cx="8572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8610480" y="3733920"/>
            <a:ext cx="3049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85760" y="1371600"/>
          <a:ext cx="865332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60" y="1371600"/>
                    <a:ext cx="8653320" cy="460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671400" y="2286000"/>
          <a:ext cx="394200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1400" y="2286000"/>
                    <a:ext cx="3942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471600" y="5130720"/>
          <a:ext cx="4724280" cy="66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5130720"/>
                    <a:ext cx="47242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4645080" y="2314440"/>
          <a:ext cx="343224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5080" y="2314440"/>
                    <a:ext cx="34322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152280" y="3657600"/>
          <a:ext cx="5535720" cy="66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3657600"/>
                    <a:ext cx="55357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670720" y="3686040"/>
          <a:ext cx="3249360" cy="60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70720" y="3686040"/>
                    <a:ext cx="3249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5208480" y="5145120"/>
          <a:ext cx="3249720" cy="60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08480" y="5145120"/>
                    <a:ext cx="32497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057400" y="90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&amp;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24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41400" y="223920"/>
          <a:ext cx="910260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223920"/>
                    <a:ext cx="91026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6095880" y="5334120"/>
            <a:ext cx="11430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825640" y="1371600"/>
          <a:ext cx="502308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5640" y="1371600"/>
                    <a:ext cx="50230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4902120" y="2057400"/>
          <a:ext cx="332748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2120" y="2057400"/>
                    <a:ext cx="3327480" cy="133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228600" y="2057400"/>
          <a:ext cx="3673440" cy="86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057400"/>
                    <a:ext cx="3673440" cy="860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212760" y="3102120"/>
          <a:ext cx="367344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760" y="3102120"/>
                    <a:ext cx="3673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254160" y="4121280"/>
          <a:ext cx="3327120" cy="60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160" y="4121280"/>
                    <a:ext cx="332712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914400" y="5111640"/>
          <a:ext cx="1944720" cy="60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5111640"/>
                    <a:ext cx="19447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219320" y="5943600"/>
          <a:ext cx="1425600" cy="60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5943600"/>
                    <a:ext cx="14256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4851360" y="3619440"/>
          <a:ext cx="3759120" cy="1333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51360" y="3619440"/>
                    <a:ext cx="37591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4905360" y="5308560"/>
          <a:ext cx="2333520" cy="77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05360" y="5308560"/>
                    <a:ext cx="2333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057400" y="90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&amp;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24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52280" y="139680"/>
          <a:ext cx="69184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9680"/>
                    <a:ext cx="6918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"/>
          <p:cNvSpPr/>
          <p:nvPr/>
        </p:nvSpPr>
        <p:spPr>
          <a:xfrm>
            <a:off x="6219720" y="5396040"/>
            <a:ext cx="60984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347760" y="1582560"/>
          <a:ext cx="903240" cy="4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60" y="1582560"/>
                    <a:ext cx="90324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304920" y="2649600"/>
          <a:ext cx="96336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649600"/>
                    <a:ext cx="9633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99880" y="3795840"/>
          <a:ext cx="1144800" cy="4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3795840"/>
                    <a:ext cx="1144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90520" y="4933800"/>
          <a:ext cx="1114560" cy="48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0520" y="4933800"/>
                    <a:ext cx="111456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304920" y="6157800"/>
          <a:ext cx="1295280" cy="48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920" y="6157800"/>
                    <a:ext cx="12952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1947960" y="1187280"/>
          <a:ext cx="1204920" cy="102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47960" y="1187280"/>
                    <a:ext cx="12049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1967040" y="2254320"/>
          <a:ext cx="1204920" cy="1022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67040" y="2254320"/>
                    <a:ext cx="12049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1940040" y="3397320"/>
          <a:ext cx="1295280" cy="102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40040" y="3397320"/>
                    <a:ext cx="129528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043000" y="4540320"/>
          <a:ext cx="1204920" cy="1022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43000" y="4540320"/>
                    <a:ext cx="12049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2057400" y="5759280"/>
          <a:ext cx="1355760" cy="102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57400" y="5759280"/>
                    <a:ext cx="13557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2847960" y="1190520"/>
            <a:ext cx="304920" cy="4572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52640" y="2266920"/>
            <a:ext cx="304920" cy="4572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05120" y="3400560"/>
            <a:ext cx="380880" cy="4572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24280" y="4538520"/>
            <a:ext cx="304560" cy="4572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76560" y="5757840"/>
            <a:ext cx="304920" cy="4572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33920" y="1371600"/>
            <a:ext cx="50292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ders repeat every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5105520" y="2465280"/>
            <a:ext cx="1708200" cy="2487600"/>
            <a:chOff x="5105520" y="2465280"/>
            <a:chExt cx="1708200" cy="2487600"/>
          </a:xfrm>
        </p:grpSpPr>
        <p:graphicFrame>
          <p:nvGraphicFramePr>
            <p:cNvPr id="665" name=""/>
            <p:cNvGraphicFramePr/>
            <p:nvPr/>
          </p:nvGraphicFramePr>
          <p:xfrm>
            <a:off x="5105520" y="2465280"/>
            <a:ext cx="1708200" cy="144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105520" y="2465280"/>
                      <a:ext cx="1708200" cy="14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5567400" y="3684600"/>
            <a:ext cx="1197000" cy="596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567400" y="3684600"/>
                      <a:ext cx="119700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9" name=""/>
            <p:cNvSpPr/>
            <p:nvPr/>
          </p:nvSpPr>
          <p:spPr>
            <a:xfrm>
              <a:off x="5562720" y="42940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34120" y="3989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1" name=""/>
            <p:cNvGraphicFramePr/>
            <p:nvPr/>
          </p:nvGraphicFramePr>
          <p:xfrm>
            <a:off x="6326280" y="4356000"/>
            <a:ext cx="384120" cy="5968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6280" y="4356000"/>
                      <a:ext cx="38412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3" name=""/>
          <p:cNvGraphicFramePr/>
          <p:nvPr/>
        </p:nvGraphicFramePr>
        <p:xfrm>
          <a:off x="6218280" y="5354640"/>
          <a:ext cx="598320" cy="554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218280" y="5354640"/>
                    <a:ext cx="5983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057400" y="90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&amp;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24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2280" y="117360"/>
          <a:ext cx="8061480" cy="15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8061480" cy="15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8658360" y="3657600"/>
            <a:ext cx="45720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015400" y="1066680"/>
          <a:ext cx="42696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15400" y="1066680"/>
                    <a:ext cx="4269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114480" y="1909080"/>
            <a:ext cx="78865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iding by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the number is divisible by both 3 and 2, it is divisible by 6 as 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9160" y="2904480"/>
            <a:ext cx="8610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iding by 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up the digits: if the sum is divisible by three, then the number is as 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9160" y="2375640"/>
            <a:ext cx="6324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iding by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the number is even the number is divisible by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76320" y="3708360"/>
          <a:ext cx="761976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708360"/>
                    <a:ext cx="7619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"/>
          <p:cNvGrpSpPr/>
          <p:nvPr/>
        </p:nvGrpSpPr>
        <p:grpSpPr>
          <a:xfrm>
            <a:off x="6248520" y="1633680"/>
            <a:ext cx="2361960" cy="0"/>
            <a:chOff x="6248520" y="1633680"/>
            <a:chExt cx="2361960" cy="0"/>
          </a:xfrm>
        </p:grpSpPr>
        <p:sp>
          <p:nvSpPr>
            <p:cNvPr id="687" name=""/>
            <p:cNvSpPr/>
            <p:nvPr/>
          </p:nvSpPr>
          <p:spPr>
            <a:xfrm>
              <a:off x="6248520" y="1633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24680" y="1633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86600" y="1633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0" name=""/>
          <p:cNvGraphicFramePr/>
          <p:nvPr/>
        </p:nvGraphicFramePr>
        <p:xfrm>
          <a:off x="7238880" y="1079640"/>
          <a:ext cx="42732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1079640"/>
                    <a:ext cx="427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2" name=""/>
          <p:cNvGraphicFramePr/>
          <p:nvPr/>
        </p:nvGraphicFramePr>
        <p:xfrm>
          <a:off x="6386400" y="1198440"/>
          <a:ext cx="42732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86400" y="1198440"/>
                    <a:ext cx="4273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7023240" y="3643200"/>
          <a:ext cx="563400" cy="52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3240" y="3643200"/>
                    <a:ext cx="5634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7613640" y="3610080"/>
          <a:ext cx="1476360" cy="99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13640" y="3610080"/>
                    <a:ext cx="1476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395360" y="5130720"/>
          <a:ext cx="5919840" cy="11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95360" y="5130720"/>
                    <a:ext cx="5919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057400" y="90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&amp;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24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71360" y="76320"/>
          <a:ext cx="836316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76320"/>
                    <a:ext cx="83631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>
            <a:off x="7543800" y="4724280"/>
            <a:ext cx="79056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4648320" y="2052720"/>
          <a:ext cx="397512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052720"/>
                    <a:ext cx="39751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838080" y="5715000"/>
          <a:ext cx="20484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5715000"/>
                    <a:ext cx="204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 flipV="1">
            <a:off x="1523880" y="2214360"/>
            <a:ext cx="2362320" cy="3429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600200" y="4805280"/>
          <a:ext cx="20484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805280"/>
                    <a:ext cx="204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1" name=""/>
          <p:cNvGrpSpPr/>
          <p:nvPr/>
        </p:nvGrpSpPr>
        <p:grpSpPr>
          <a:xfrm>
            <a:off x="1542960" y="3357720"/>
            <a:ext cx="1155960" cy="2286000"/>
            <a:chOff x="1542960" y="3357720"/>
            <a:chExt cx="1155960" cy="2286000"/>
          </a:xfrm>
        </p:grpSpPr>
        <p:sp>
          <p:nvSpPr>
            <p:cNvPr id="712" name=""/>
            <p:cNvSpPr/>
            <p:nvPr/>
          </p:nvSpPr>
          <p:spPr>
            <a:xfrm>
              <a:off x="1542960" y="4500720"/>
              <a:ext cx="1155960" cy="11430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42960" y="3357720"/>
              <a:ext cx="1155960" cy="11430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95680" y="2214720"/>
            <a:ext cx="1162080" cy="3429000"/>
            <a:chOff x="2695680" y="2214720"/>
            <a:chExt cx="1162080" cy="3429000"/>
          </a:xfrm>
        </p:grpSpPr>
        <p:sp>
          <p:nvSpPr>
            <p:cNvPr id="715" name=""/>
            <p:cNvSpPr/>
            <p:nvPr/>
          </p:nvSpPr>
          <p:spPr>
            <a:xfrm>
              <a:off x="2695680" y="2214720"/>
              <a:ext cx="1155600" cy="11430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01800" y="4500720"/>
              <a:ext cx="1155960" cy="11430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01800" y="3357720"/>
              <a:ext cx="1155960" cy="11430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87360" y="4500720"/>
            <a:ext cx="1155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76320" y="5643720"/>
          <a:ext cx="315720" cy="31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5643720"/>
                    <a:ext cx="31572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1395360" y="5643720"/>
          <a:ext cx="290520" cy="31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95360" y="5643720"/>
                    <a:ext cx="29052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262160" y="4202280"/>
          <a:ext cx="290520" cy="33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62160" y="4202280"/>
                    <a:ext cx="29052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133200" y="4224240"/>
          <a:ext cx="314640" cy="312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3200" y="4224240"/>
                    <a:ext cx="3146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 flipV="1">
            <a:off x="380880" y="2214360"/>
            <a:ext cx="350532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905280" y="1938240"/>
          <a:ext cx="266760" cy="312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05280" y="1938240"/>
                    <a:ext cx="26676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1981080" y="5715000"/>
          <a:ext cx="204840" cy="376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81080" y="5715000"/>
                    <a:ext cx="204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124080" y="5715000"/>
          <a:ext cx="204840" cy="376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24080" y="5715000"/>
                    <a:ext cx="204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3886200" y="4876920"/>
          <a:ext cx="204840" cy="376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6200" y="4876920"/>
                    <a:ext cx="204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3886200" y="3733920"/>
          <a:ext cx="204840" cy="376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86200" y="3733920"/>
                    <a:ext cx="204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3886200" y="2590920"/>
          <a:ext cx="204840" cy="376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86200" y="2590920"/>
                    <a:ext cx="204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"/>
          <p:cNvSpPr/>
          <p:nvPr/>
        </p:nvSpPr>
        <p:spPr>
          <a:xfrm>
            <a:off x="4648320" y="3130560"/>
            <a:ext cx="411480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5 squares all of which are congruent to square AB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4836960" y="4673520"/>
          <a:ext cx="3445200" cy="66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36960" y="4673520"/>
                    <a:ext cx="34452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34800" y="304920"/>
          <a:ext cx="837432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304920"/>
                    <a:ext cx="83743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743200" y="90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1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11680" y="2192400"/>
          <a:ext cx="129384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2192400"/>
                    <a:ext cx="129384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932280" y="3581280"/>
          <a:ext cx="1173240" cy="9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2280" y="3581280"/>
                    <a:ext cx="117324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5029200"/>
          <a:ext cx="662040" cy="93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5029200"/>
                    <a:ext cx="66204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129200" y="5014800"/>
            <a:ext cx="7617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2895480" y="90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Tiebr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76320" y="741240"/>
          <a:ext cx="883908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41240"/>
                    <a:ext cx="88390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317520" y="1741320"/>
          <a:ext cx="88138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520" y="1741320"/>
                    <a:ext cx="88138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290520" y="3657600"/>
          <a:ext cx="801540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520" y="3657600"/>
                    <a:ext cx="80154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51460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&amp;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Tiebr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54080" y="534960"/>
          <a:ext cx="769464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534960"/>
                    <a:ext cx="76946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322200" y="1146240"/>
          <a:ext cx="8440920" cy="106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200" y="1146240"/>
                    <a:ext cx="8440920" cy="106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228600" y="2311560"/>
          <a:ext cx="2610000" cy="58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311560"/>
                    <a:ext cx="261000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204840" y="3798720"/>
          <a:ext cx="410220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4840" y="3798720"/>
                    <a:ext cx="4102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1531800" y="4573440"/>
          <a:ext cx="5859720" cy="53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31800" y="4573440"/>
                    <a:ext cx="5859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228600" y="5514840"/>
          <a:ext cx="354168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5514840"/>
                    <a:ext cx="3541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2755800" y="6173640"/>
          <a:ext cx="4635720" cy="53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55800" y="6173640"/>
                    <a:ext cx="4635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3048120" y="2973240"/>
          <a:ext cx="2876400" cy="532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8120" y="2973240"/>
                    <a:ext cx="28764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43200" y="90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1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7280" y="217440"/>
          <a:ext cx="82375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217440"/>
                    <a:ext cx="82375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809880" y="2133720"/>
          <a:ext cx="138276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133720"/>
                    <a:ext cx="13827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733920" y="3541680"/>
          <a:ext cx="168408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541680"/>
                    <a:ext cx="16840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809880" y="4456080"/>
          <a:ext cx="1413000" cy="4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456080"/>
                    <a:ext cx="141300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114800" y="5316480"/>
          <a:ext cx="901800" cy="93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5316480"/>
                    <a:ext cx="9018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57600" y="531972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43200" y="90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1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78000" y="457200"/>
          <a:ext cx="631332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57200"/>
                    <a:ext cx="63133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679920" y="1825560"/>
          <a:ext cx="165420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9920" y="1825560"/>
                    <a:ext cx="16542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325680" y="2728800"/>
          <a:ext cx="2617920" cy="60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25680" y="2728800"/>
                    <a:ext cx="26179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822400" y="3770280"/>
          <a:ext cx="3578400" cy="4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22400" y="3770280"/>
                    <a:ext cx="357840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486400" y="4586400"/>
            <a:ext cx="60948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24160" y="4684680"/>
          <a:ext cx="2795760" cy="42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160" y="4684680"/>
                    <a:ext cx="27957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43200" y="90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1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78000" y="533520"/>
          <a:ext cx="8056440" cy="15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533520"/>
                    <a:ext cx="805644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128600" y="2819520"/>
          <a:ext cx="1157400" cy="11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8600" y="2819520"/>
                    <a:ext cx="11574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095880" y="2819520"/>
            <a:ext cx="16765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629400" y="2847960"/>
          <a:ext cx="106668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284796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514600" y="2852640"/>
          <a:ext cx="1371600" cy="106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2852640"/>
                    <a:ext cx="13716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068720" y="2838600"/>
          <a:ext cx="134136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8720" y="2838600"/>
                    <a:ext cx="1341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447920" y="3047760"/>
            <a:ext cx="3733560" cy="838080"/>
            <a:chOff x="1447920" y="3047760"/>
            <a:chExt cx="3733560" cy="838080"/>
          </a:xfrm>
        </p:grpSpPr>
        <p:sp>
          <p:nvSpPr>
            <p:cNvPr id="104" name=""/>
            <p:cNvSpPr/>
            <p:nvPr/>
          </p:nvSpPr>
          <p:spPr>
            <a:xfrm flipV="1">
              <a:off x="1447920" y="3657240"/>
              <a:ext cx="5331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648320" y="3047760"/>
              <a:ext cx="5331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05120" y="3047760"/>
            <a:ext cx="1904760" cy="686160"/>
            <a:chOff x="1905120" y="3047760"/>
            <a:chExt cx="1904760" cy="686160"/>
          </a:xfrm>
        </p:grpSpPr>
        <p:sp>
          <p:nvSpPr>
            <p:cNvPr id="107" name=""/>
            <p:cNvSpPr/>
            <p:nvPr/>
          </p:nvSpPr>
          <p:spPr>
            <a:xfrm flipV="1">
              <a:off x="1905120" y="3047760"/>
              <a:ext cx="30456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505320" y="3581280"/>
              <a:ext cx="30456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895480" y="2895480"/>
            <a:ext cx="2457720" cy="1038240"/>
            <a:chOff x="2895480" y="2895480"/>
            <a:chExt cx="2457720" cy="1038240"/>
          </a:xfrm>
        </p:grpSpPr>
        <p:sp>
          <p:nvSpPr>
            <p:cNvPr id="110" name=""/>
            <p:cNvSpPr/>
            <p:nvPr/>
          </p:nvSpPr>
          <p:spPr>
            <a:xfrm>
              <a:off x="2895480" y="2895480"/>
              <a:ext cx="838440" cy="457200"/>
            </a:xfrm>
            <a:prstGeom prst="ellipse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62480" y="3429000"/>
              <a:ext cx="990720" cy="504720"/>
            </a:xfrm>
            <a:prstGeom prst="ellipse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5562720" y="2979720"/>
          <a:ext cx="1101600" cy="885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9720"/>
                    <a:ext cx="11016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90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1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457200"/>
          <a:ext cx="61959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61959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435480" y="2057400"/>
          <a:ext cx="192564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5480" y="2057400"/>
                    <a:ext cx="19256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476600" y="4081320"/>
            <a:ext cx="10861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01840" y="3048120"/>
          <a:ext cx="243684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1840" y="3048120"/>
                    <a:ext cx="2436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441600" y="4114800"/>
          <a:ext cx="2105280" cy="4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1600" y="4114800"/>
                    <a:ext cx="21052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90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Grade Problems 1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38120" y="380880"/>
          <a:ext cx="745812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380880"/>
                    <a:ext cx="745812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00200" y="3359160"/>
          <a:ext cx="17733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359160"/>
                    <a:ext cx="1773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800600" y="3048120"/>
            <a:ext cx="281952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876920" y="3809880"/>
            <a:ext cx="2590560" cy="0"/>
            <a:chOff x="4876920" y="3809880"/>
            <a:chExt cx="2590560" cy="0"/>
          </a:xfrm>
        </p:grpSpPr>
        <p:sp>
          <p:nvSpPr>
            <p:cNvPr id="131" name=""/>
            <p:cNvSpPr/>
            <p:nvPr/>
          </p:nvSpPr>
          <p:spPr>
            <a:xfrm>
              <a:off x="4876920" y="38098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8098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38098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924440" y="3000240"/>
            <a:ext cx="2390760" cy="965160"/>
            <a:chOff x="4924440" y="3000240"/>
            <a:chExt cx="2390760" cy="965160"/>
          </a:xfrm>
        </p:grpSpPr>
        <p:graphicFrame>
          <p:nvGraphicFramePr>
            <p:cNvPr id="135" name=""/>
            <p:cNvGraphicFramePr/>
            <p:nvPr/>
          </p:nvGraphicFramePr>
          <p:xfrm>
            <a:off x="4924440" y="3003480"/>
            <a:ext cx="620640" cy="96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24440" y="3003480"/>
                      <a:ext cx="620640" cy="9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918040" y="3000240"/>
            <a:ext cx="482760" cy="89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18040" y="3000240"/>
                      <a:ext cx="482760" cy="8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6832440" y="3000240"/>
            <a:ext cx="482760" cy="893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32440" y="3000240"/>
                      <a:ext cx="482760" cy="8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1" name=""/>
          <p:cNvSpPr/>
          <p:nvPr/>
        </p:nvSpPr>
        <p:spPr>
          <a:xfrm>
            <a:off x="914400" y="2216160"/>
            <a:ext cx="304812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a product of three numbers equal 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00200" y="4121280"/>
          <a:ext cx="1698480" cy="52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4121280"/>
                    <a:ext cx="16984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600200" y="4959360"/>
          <a:ext cx="1584360" cy="52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0200" y="4959360"/>
                    <a:ext cx="1584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ulty</cp:lastModifiedBy>
  <dcterms:modified xsi:type="dcterms:W3CDTF">2007-02-26T16:09:47Z</dcterms:modified>
  <cp:revision>192</cp:revision>
  <dc:subject/>
  <dc:title>PowerPoint Presentation</dc:title>
</cp:coreProperties>
</file>